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9.gif" ContentType="image/gif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0.jpeg" ContentType="image/jpeg"/>
  <Override PartName="/ppt/media/image24.jpeg" ContentType="image/jpeg"/>
  <Override PartName="/ppt/media/image43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11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6C42-4F38-416B-AB75-D0E44D18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128C-C15D-4598-9B71-BAA428D9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CAEA-721F-4805-96A2-25732C4C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495B-8738-46F5-869A-F73D3C528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ABCF-6BE5-4F6C-AD86-C033D563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B5ED-C69D-4BE7-B1B1-FA8B267F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E342-0B55-4D65-B0CC-CEA7AD06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1015-1597-4124-886A-F57E862C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0439-EECA-4EC9-A99A-092C41FE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8782-16DF-4105-848D-D018DEA8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F3A2-A939-4256-9355-CAD7C65F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9F81-A010-4B25-AD68-81F7E265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EDFB-1D25-45A8-88E1-BBDFD7E74B7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d Media:  AP de Literatur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S 20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h4.google.es/image/thortmenta/Rjb2RtMjnnI/AAAAAAAAAQ0/HJHFaibFK_k/MioCid.jpg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hyperlink" Target="http://images.google.hn/imgres?imgurl=http://www.fuenterrebollo.com/Arabes/navas-tolosa.jpg&amp;imgrefurl=http://www.stormfront.org/forum/showthread.php%3Ft%3D309038&amp;h=522&amp;w=749&amp;sz=75&amp;hl=es&amp;start=3&amp;tbnid=CVyGmcEyuyr03M:&amp;tbnh=98&amp;tbnw=141&amp;prev=/images%3Fq%3Dla%2Btoma%2Bde%2Bgranada%26gbv%3D2%26hl%3Des" TargetMode="External"/><Relationship Id="rId9" Type="http://schemas.openxmlformats.org/officeDocument/2006/relationships/image" Target="../media/image7.jpeg"/><Relationship Id="rId10" Type="http://schemas.openxmlformats.org/officeDocument/2006/relationships/hyperlink" Target="http://www.obrasocialcajasegovia.com/conocersegovia/Lib/Castellano/imgTest/foto06.jpg" TargetMode="External"/><Relationship Id="rId11" Type="http://schemas.openxmlformats.org/officeDocument/2006/relationships/image" Target="../media/image8.jpeg"/><Relationship Id="rId12" Type="http://schemas.openxmlformats.org/officeDocument/2006/relationships/image" Target="../media/image9.gif"/><Relationship Id="rId13" Type="http://schemas.openxmlformats.org/officeDocument/2006/relationships/hyperlink" Target="http://images.google.hn/imgres?imgurl=http://www.monografias.com/trabajos2/renacimiento/Image1375.gif&amp;imgrefurl=http://www.monografias.com/trabajos2/renacimiento/renacimiento.shtml&amp;h=471&amp;w=375&amp;sz=96&amp;hl=es&amp;start=7&amp;um=1&amp;tbnid=wXAae9Ziy4nH4M:&amp;tbnh=129&amp;tbnw=103&amp;prev=/images%3Fq%3Drenacimiento%26um%3D1%26hl%3Des%26lr%3D" TargetMode="External"/><Relationship Id="rId14" Type="http://schemas.openxmlformats.org/officeDocument/2006/relationships/image" Target="../media/image10.jpeg"/><Relationship Id="rId15" Type="http://schemas.openxmlformats.org/officeDocument/2006/relationships/image" Target="../media/image11.jpeg"/><Relationship Id="rId16" Type="http://schemas.openxmlformats.org/officeDocument/2006/relationships/image" Target="../media/image12.jpeg"/><Relationship Id="rId17" Type="http://schemas.openxmlformats.org/officeDocument/2006/relationships/image" Target="../media/image13.jpeg"/><Relationship Id="rId18" Type="http://schemas.openxmlformats.org/officeDocument/2006/relationships/image" Target="../media/image14.jpeg"/><Relationship Id="rId19" Type="http://schemas.openxmlformats.org/officeDocument/2006/relationships/image" Target="../media/image15.png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yberspain.com/ciudades-patrimonio/fotos/tolsina.htm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ib.duke.edu/music/resources/alhambra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hn/imgres?imgurl=http://www.psicofxp.com/forums/images/contenidos/poetas/cid.jpg&amp;imgrefurl=http://www.psicofxp.com/forums/articulos-de-literatura-e-historia.518/584722-extension-de-un-poema.html&amp;h=440&amp;w=624&amp;sz=32&amp;hl=es&amp;start=2&amp;tbnid=i1Nve8Gvkje2sM:&amp;tbnh=96&amp;tbnw=136&amp;prev=/images%3Fq%3Del%2Bmio%2Bcid%26gbv%3D2%26hl%3Des%26sa%3D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hn/imgres?imgurl=http://html.rincondelvago.com/files/5/6/4/000025641.png&amp;imgrefurl=http://html.rincondelvago.com/cantar-del-mio-cid_15.html&amp;h=414&amp;w=372&amp;sz=344&amp;hl=es&amp;start=4&amp;tbnid=zklrf2PM348YdM:&amp;tbnh=125&amp;tbnw=112&amp;prev=/images%3Fq%3Del%2Bmio%2Bcid%26gbv%3D2%26hl%3Des%26sa%3DG" TargetMode="External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obrasocialcajasegovia.com/conocersegovia/Lib/Castellano/imgTest/foto06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hn/imgres?imgurl=http://62.15.226.148/fot/e10/2989325.jpg&amp;imgrefurl=http://camaras-fotograficas-antiguas.vender-coleccionismo.com/la-caida-del-imperio-romano~x6520452&amp;h=350&amp;w=450&amp;sz=72&amp;hl=es&amp;start=4&amp;um=1&amp;tbnid=6Qczhae_VWApXM:&amp;tbnh=99&amp;tbnw=127&amp;prev=/images%3Fq%3Dla%2Bcaida%2Bdel%2Bimperio%2Bromano%2Bde%2BOccidente%26um%3D1%26hl%3Des%26lr%3D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hn/imgres?imgurl=http://www.monografias.com/trabajos2/renacimiento/Image1375.gif&amp;imgrefurl=http://www.monografias.com/trabajos2/renacimiento/renacimiento.shtml&amp;h=471&amp;w=375&amp;sz=96&amp;hl=es&amp;start=7&amp;um=1&amp;tbnid=wXAae9Ziy4nH4M:&amp;tbnh=129&amp;tbnw=103&amp;prev=/images%3Fq%3Drenacimiento%26um%3D1%26hl%3Des%26lr%3D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hn/imgres?imgurl=http://www.geocities.com/urunuela25/gonzadeberceo.jpg&amp;imgrefurl=http://www.geocities.com/urunuela25/imagen_berceo.htm&amp;h=768&amp;w=301&amp;sz=43&amp;hl=es&amp;start=1&amp;um=1&amp;tbnid=f0cawuww52Rv0M:&amp;tbnh=142&amp;tbnw=56&amp;prev=/images%3Fq%3DGonzalo%2Bde%2BBerceo%26um%3D1%26hl%3Des%26rlz%3D1T4GGLR_esHN265HN267%26sa%3DN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images.google.hn/imgres?imgurl=http://www.uark.edu/depts/flaninfo/4213webpage06/%2520Images/juglar%2520castellano.jpg&amp;imgrefurl=http://manuscritos-rre.blogspot.com/2007_11_01_archive.html&amp;h=295&amp;w=310&amp;sz=79&amp;hl=es&amp;start=12&amp;um=1&amp;tbnid=MAQUiizHlz6edM:&amp;tbnh=111&amp;tbnw=117&amp;prev=/images%3Fq%3Dgonzalo%2Bde%2Bberceo%2Bimages%26um%3D1%26hl%3Des%26lr%3D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Partidas.jpg" TargetMode="External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p3.blogger.com/_vb-2nlYieEk/RnBEaIU1OSI/AAAAAAAAAPk/U6OT0IAOmvI/s400/numancia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google.hn/imgres?imgurl=http://docs.tercera.cl/especiales/2003/saddam/capitulo2/images/arabes.jpg&amp;imgrefurl=http://docs.tercera.cl/especiales/2003/saddam/capitulo2/sunitaschiitas.htm&amp;h=190&amp;w=270&amp;sz=17&amp;hl=es&amp;start=2&amp;tbnid=nALfH6lkwVYqLM:&amp;tbnh=80&amp;tbnw=113&amp;prev=/images%3Fq%3Darabes%26gbv%3D2%26hl%3Des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images.google.hn/imgres?imgurl=http://www.regmurcia.com/servlet/integra.servlets.Imagenes%3FMETHOD%3DVERIMAGEN_27548%26nombre%3DInfante_-_Portada_res_300.jpg&amp;imgrefurl=http://www.regmurcia.com/servlet/integra.servlets.ServletLink%3Fsit%3Dc%257C373%257Ca%257C0%257Cm%257C1207%257C%26cad%3DReportajesPortal%24Don%2520Juan%2520Manuel%242236%24DETALLE_REPORTAJES&amp;h=300&amp;w=300&amp;sz=23&amp;hl=es&amp;start=1&amp;um=1&amp;tbnid=gJAXO3mdVgK5NM:&amp;tbnh=116&amp;tbnw=116&amp;prev=/images%3Fq%3Ddon%2Bjuan%2Bmanuel%26um%3D1%26hl%3Des%26rlz%3D1T4GGLR_esHN265HN267" TargetMode="External"/><Relationship Id="rId3" Type="http://schemas.openxmlformats.org/officeDocument/2006/relationships/image" Target="../media/image36.jpeg"/><Relationship Id="rId4" Type="http://schemas.openxmlformats.org/officeDocument/2006/relationships/hyperlink" Target="http://images.google.hn/imgres?imgurl=http://www.homolaicus.com/arte/cesena/storia/Malatestiana/foto/Codice%2520Tractatus%2520de%2520vita.jpg&amp;imgrefurl=http://libertinajegatuno.blogspot.com/2007/08/don-juan-manuel-el-conde-lucanor.html&amp;h=460&amp;w=573&amp;sz=166&amp;hl=es&amp;start=3&amp;um=1&amp;tbnid=oOFCoWoztRc8ZM:&amp;tbnh=108&amp;tbnw=134&amp;prev=/images%3Fq%3Ddon%2Bjuan%2Bmanuel%26um%3D1%26hl%3Des%26rlz%3D1T4GGLR_esHN265HN267" TargetMode="External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Don_Juan_Manuel.jpg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hn/imgres?imgurl=http://www.fuenterrebollo.com/Arabes/navas-tolosa.jpg&amp;imgrefurl=http://www.stormfront.org/forum/showthread.php%3Ft%3D309038&amp;h=522&amp;w=749&amp;sz=75&amp;hl=es&amp;start=3&amp;tbnid=CVyGmcEyuyr03M:&amp;tbnh=98&amp;tbnw=141&amp;prev=/images%3Fq%3Dla%2Btoma%2Bde%2Bgranada%26gbv%3D2%26hl%3Des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hn/imgres?imgurl=http://es.geocities.com/web_odessa/imagenes/mitos/donPelayo.jpg&amp;imgrefurl=http://es.geocities.com/web_odessa/imagenes/mitos.html&amp;h=269&amp;w=267&amp;sz=24&amp;hl=es&amp;start=3&amp;tbnid=ffAhZ4SCiOFR9M:&amp;tbnh=113&amp;tbnw=112&amp;prev=/images%3Fq%3Dbatalla%2Bde%2Bcovadonga%26gbv%3D2%26hl%3Des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hn/imgres?imgurl=http://image.wetpaint.com/image/1/x8l6OI1weR6EzSyJkcM-Ag54123/GW450H351&amp;imgrefurl=http://civwiki.wetpaint.com/page/Isabel%2By%2BFernando:%2BLos%2Breyes%2Bcat%25C3%25B3licos&amp;h=351&amp;w=450&amp;sz=53&amp;hl=es&amp;start=9&amp;tbnid=5K3R7oSz-45LfM:&amp;tbnh=99&amp;tbnw=127&amp;prev=/images%3Fq%3Dreyes%2Bcatolicos%2Ben%2B1492%26gbv%3D2%26hl%3Des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virtourist.com/europe/seville/03.htm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virtourist.com/europe/seville/02.htm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5" descr="cantigas"/>
          <p:cNvPicPr/>
          <p:nvPr/>
        </p:nvPicPr>
        <p:blipFill>
          <a:blip r:embed="rId1"/>
          <a:stretch/>
        </p:blipFill>
        <p:spPr>
          <a:xfrm>
            <a:off x="0" y="1447920"/>
            <a:ext cx="16002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4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3" name="Picture 13" descr="MioCid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0020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17" descr="yusag1"/>
            <p:cNvPicPr/>
            <p:nvPr/>
          </p:nvPicPr>
          <p:blipFill>
            <a:blip r:embed="rId4"/>
            <a:stretch/>
          </p:blipFill>
          <p:spPr>
            <a:xfrm>
              <a:off x="0" y="3048120"/>
              <a:ext cx="160020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19" descr="SEPCU28"/>
            <p:cNvPicPr/>
            <p:nvPr/>
          </p:nvPicPr>
          <p:blipFill>
            <a:blip r:embed="rId5"/>
            <a:stretch/>
          </p:blipFill>
          <p:spPr>
            <a:xfrm>
              <a:off x="0" y="4495680"/>
              <a:ext cx="160020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21" descr="250px-Cantar_de_mio_Cid_f"/>
            <p:cNvPicPr/>
            <p:nvPr/>
          </p:nvPicPr>
          <p:blipFill>
            <a:blip r:embed="rId6"/>
            <a:stretch/>
          </p:blipFill>
          <p:spPr>
            <a:xfrm>
              <a:off x="1600200" y="0"/>
              <a:ext cx="17524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22" descr="juglar%20castellano"/>
            <p:cNvPicPr/>
            <p:nvPr/>
          </p:nvPicPr>
          <p:blipFill>
            <a:blip r:embed="rId7"/>
            <a:stretch/>
          </p:blipFill>
          <p:spPr>
            <a:xfrm>
              <a:off x="3352680" y="0"/>
              <a:ext cx="182880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23" descr="navas-tolosa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181480" y="0"/>
              <a:ext cx="251460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24" descr="foto06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7620120" y="0"/>
              <a:ext cx="15238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25" descr="CLIO"/>
            <p:cNvPicPr/>
            <p:nvPr/>
          </p:nvPicPr>
          <p:blipFill>
            <a:blip r:embed="rId12"/>
            <a:stretch/>
          </p:blipFill>
          <p:spPr>
            <a:xfrm>
              <a:off x="7620120" y="1447920"/>
              <a:ext cx="1523880" cy="17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6" descr="Image1375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7620120" y="3124080"/>
              <a:ext cx="1523880" cy="17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28" descr="arabes"/>
            <p:cNvPicPr/>
            <p:nvPr/>
          </p:nvPicPr>
          <p:blipFill>
            <a:blip r:embed="rId15"/>
            <a:stretch/>
          </p:blipFill>
          <p:spPr>
            <a:xfrm>
              <a:off x="7620120" y="4829040"/>
              <a:ext cx="1523880" cy="20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30" descr="Clerecia"/>
            <p:cNvPicPr/>
            <p:nvPr/>
          </p:nvPicPr>
          <p:blipFill>
            <a:blip r:embed="rId16"/>
            <a:stretch/>
          </p:blipFill>
          <p:spPr>
            <a:xfrm>
              <a:off x="5791320" y="5562720"/>
              <a:ext cx="183816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32" descr="clu_4bisg_83EE905_detail2"/>
            <p:cNvPicPr/>
            <p:nvPr/>
          </p:nvPicPr>
          <p:blipFill>
            <a:blip r:embed="rId17"/>
            <a:stretch/>
          </p:blipFill>
          <p:spPr>
            <a:xfrm>
              <a:off x="3962520" y="5562720"/>
              <a:ext cx="186696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34" descr="juglar"/>
            <p:cNvPicPr/>
            <p:nvPr/>
          </p:nvPicPr>
          <p:blipFill>
            <a:blip r:embed="rId18"/>
            <a:stretch/>
          </p:blipFill>
          <p:spPr>
            <a:xfrm>
              <a:off x="2743200" y="5562720"/>
              <a:ext cx="12384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36" descr="20070601223746-romancero"/>
            <p:cNvPicPr/>
            <p:nvPr/>
          </p:nvPicPr>
          <p:blipFill>
            <a:blip r:embed="rId19"/>
            <a:stretch/>
          </p:blipFill>
          <p:spPr>
            <a:xfrm>
              <a:off x="1523880" y="5562720"/>
              <a:ext cx="121932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Group 37"/>
          <p:cNvGrpSpPr/>
          <p:nvPr/>
        </p:nvGrpSpPr>
        <p:grpSpPr>
          <a:xfrm>
            <a:off x="1905120" y="1676520"/>
            <a:ext cx="5333400" cy="1600200"/>
            <a:chOff x="1905120" y="1676520"/>
            <a:chExt cx="5333400" cy="1600200"/>
          </a:xfrm>
        </p:grpSpPr>
        <p:sp>
          <p:nvSpPr>
            <p:cNvPr id="98" name="WordArt 38"/>
            <p:cNvSpPr txBox="1"/>
            <p:nvPr/>
          </p:nvSpPr>
          <p:spPr>
            <a:xfrm>
              <a:off x="1905120" y="1676520"/>
              <a:ext cx="5281560" cy="94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57240">
                    <a:solidFill>
                      <a:srgbClr val="ffffff"/>
                    </a:solidFill>
                    <a:miter/>
                  </a:ln>
                  <a:solidFill>
                    <a:srgbClr val="ffcc66"/>
                  </a:solidFill>
                  <a:effectLst>
                    <a:outerShdw dist="38183" dir="2700000" blurRad="0" rotWithShape="0">
                      <a:srgbClr val="000000">
                        <a:alpha val="44000"/>
                      </a:srgbClr>
                    </a:outerShdw>
                  </a:effectLst>
                  <a:latin typeface="Showcard Gothic"/>
                </a:rPr>
                <a:t>Literatura Medieval</a:t>
              </a:r>
              <a:endParaRPr b="0" lang="en-US" sz="2400" spc="1" strike="noStrike">
                <a:ln w="57240">
                  <a:solidFill>
                    <a:srgbClr val="ffffff"/>
                  </a:solidFill>
                  <a:miter/>
                </a:ln>
                <a:solidFill>
                  <a:srgbClr val="ffcc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  <a:ea typeface="Showcard Gothic"/>
              </a:endParaRPr>
            </a:p>
          </p:txBody>
        </p:sp>
        <p:sp>
          <p:nvSpPr>
            <p:cNvPr id="99" name="WordArt 39"/>
            <p:cNvSpPr txBox="1"/>
            <p:nvPr/>
          </p:nvSpPr>
          <p:spPr>
            <a:xfrm>
              <a:off x="4467240" y="2767680"/>
              <a:ext cx="2771280" cy="50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cc66"/>
                  </a:solidFill>
                  <a:effectLst>
                    <a:outerShdw dist="38183" dir="2700000" blurRad="0" rotWithShape="0">
                      <a:srgbClr val="000000">
                        <a:alpha val="44000"/>
                      </a:srgbClr>
                    </a:outerShdw>
                  </a:effectLst>
                  <a:latin typeface="Showcard Gothic"/>
                </a:rPr>
                <a:t>hasta el siglo xv</a:t>
              </a:r>
              <a:endParaRPr b="0" lang="en-US" sz="24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cc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  <a:ea typeface="Showcard Gothic"/>
              </a:endParaRPr>
            </a:p>
          </p:txBody>
        </p:sp>
      </p:grpSp>
      <p:sp>
        <p:nvSpPr>
          <p:cNvPr id="100" name="Text Box 40"/>
          <p:cNvSpPr/>
          <p:nvPr/>
        </p:nvSpPr>
        <p:spPr>
          <a:xfrm>
            <a:off x="1752480" y="3581280"/>
            <a:ext cx="5715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or: Maria Gabriela Jimenez y Ivana Co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re- AP Españo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1-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bril 10, 200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>
                <a:solidFill>
                  <a:srgbClr val="dddddd"/>
                </a:solidFill>
                <a:latin typeface="Showcard Gothic"/>
              </a:rPr>
              <a:t>La arquitectura judía</a:t>
            </a:r>
            <a:r>
              <a:rPr b="0" lang="es-HN" sz="4400" spc="-1" strike="noStrike">
                <a:solidFill>
                  <a:srgbClr val="000000"/>
                </a:solidFill>
                <a:latin typeface="Showcard 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09320" y="4800240"/>
            <a:ext cx="403884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dddddd"/>
                </a:solidFill>
                <a:latin typeface="Comic Sans MS"/>
              </a:rPr>
              <a:t>La Sinagoga del Tránsito de Tole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TOLE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1295280"/>
            <a:ext cx="5410440" cy="3543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000" spc="-1" strike="noStrike">
                <a:solidFill>
                  <a:srgbClr val="dddddd"/>
                </a:solidFill>
                <a:latin typeface="Showcard Gothic"/>
              </a:rPr>
              <a:t>La arquitectura musulmana:  </a:t>
            </a:r>
            <a:br>
              <a:rPr sz="4000"/>
            </a:br>
            <a:r>
              <a:rPr b="0" lang="es-HN" sz="4000" spc="-1" strike="noStrike">
                <a:solidFill>
                  <a:srgbClr val="dddddd"/>
                </a:solidFill>
                <a:latin typeface="Showcard Gothic"/>
              </a:rPr>
              <a:t>la Alhamb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5866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dddddd"/>
                </a:solidFill>
                <a:latin typeface="Comic Sans MS"/>
              </a:rPr>
              <a:t>Este gran palacio está en Gran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alhambr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219320"/>
            <a:ext cx="6705360" cy="4338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5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d Media:  AP de Literatur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S 20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457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000" spc="-1" strike="noStrike">
                <a:solidFill>
                  <a:srgbClr val="dddddd"/>
                </a:solidFill>
                <a:latin typeface="Showcard Gothic"/>
              </a:rPr>
              <a:t>La arquitectura musulm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dddddd"/>
                </a:solidFill>
                <a:latin typeface="Comic Sans MS"/>
              </a:rPr>
              <a:t>La gran mezquita de Córdo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TMp105b"/>
          <p:cNvPicPr/>
          <p:nvPr/>
        </p:nvPicPr>
        <p:blipFill>
          <a:blip r:embed="rId1"/>
          <a:stretch/>
        </p:blipFill>
        <p:spPr>
          <a:xfrm>
            <a:off x="4865760" y="380880"/>
            <a:ext cx="3890880" cy="6096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762120" y="671400"/>
            <a:ext cx="739116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En la segunda mitad del siglo, durante el reinado de Alfonso X el Sabio, comienza a cultivarse la prosa narrativa al ser traducida al castellano colecciones de cuentos de origen oriental, como el 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</a:rPr>
              <a:t>Libro de Calila e Dimma</a:t>
            </a: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 y el 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</a:rPr>
              <a:t>Sendebar</a:t>
            </a: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, que fue llamado 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</a:rPr>
              <a:t>Libro de los engaños e los asayamientos de las mujeres.</a:t>
            </a: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El teatro renace en la Edad Media al calor de las ceremonias religiosa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A partir del siglo XII surge un drama profano que compite con los religiosos y poco a poco sienta las bases de lo que será el teatro nacional español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Casi todas las corrientes literarias se funden a fines del siglo XV en una obra de características únicas dentro de las letras castellana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685800" y="1981080"/>
          <a:ext cx="7924680" cy="4038840"/>
        </p:xfrm>
        <a:graphic>
          <a:graphicData uri="http://schemas.openxmlformats.org/drawingml/2006/table">
            <a:tbl>
              <a:tblPr/>
              <a:tblGrid>
                <a:gridCol w="1981080"/>
                <a:gridCol w="1979640"/>
                <a:gridCol w="1982880"/>
                <a:gridCol w="1981080"/>
              </a:tblGrid>
              <a:tr h="404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HN" sz="25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</a:rPr>
                        <a:t>Siglo XI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buClr>
                          <a:srgbClr val="ffff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HN" sz="2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ster de Juglarí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HN" sz="25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</a:rPr>
                        <a:t>Siglo XII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buClr>
                          <a:srgbClr val="ffff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HN" sz="2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ster de Clerecí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buClr>
                          <a:srgbClr val="ffff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HN" sz="2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oesía Líric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HN" sz="25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</a:rPr>
                        <a:t>Siglo XIV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buClr>
                          <a:srgbClr val="ffff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HN" sz="2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uento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buClr>
                          <a:srgbClr val="ffff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buClr>
                          <a:srgbClr val="ffff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buClr>
                          <a:srgbClr val="ffff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HN" sz="2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oesía didátic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HN" sz="25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</a:rPr>
                        <a:t>Siglo XV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buClr>
                          <a:srgbClr val="ffff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HN" sz="2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Época de transició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buClr>
                          <a:srgbClr val="ffff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HN" sz="2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oesía cortesan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buClr>
                          <a:srgbClr val="ffff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buClr>
                          <a:srgbClr val="ffff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HN" sz="2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eatr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WordArt 22"/>
          <p:cNvSpPr txBox="1"/>
          <p:nvPr/>
        </p:nvSpPr>
        <p:spPr>
          <a:xfrm>
            <a:off x="1143000" y="380880"/>
            <a:ext cx="6858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7632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Literatura</a:t>
            </a:r>
            <a:endParaRPr b="0" lang="en-US" sz="2400" spc="1" strike="noStrike">
              <a:ln w="76320">
                <a:solidFill>
                  <a:srgbClr val="80808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228600" y="533520"/>
            <a:ext cx="6705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57240">
                  <a:solidFill>
                    <a:srgbClr val="009999"/>
                  </a:solidFill>
                  <a:miter/>
                </a:ln>
                <a:noFill/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Mester de Juglaría</a:t>
            </a:r>
            <a:endParaRPr b="1" lang="en-US" sz="2400" spc="1" strike="noStrike">
              <a:ln w="57240">
                <a:solidFill>
                  <a:srgbClr val="009999"/>
                </a:solidFill>
                <a:miter/>
              </a:ln>
              <a:noFill/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04920" y="1973160"/>
            <a:ext cx="853416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Lo juglares eran hombres o mujeres que eran poetas, recitadores y músicos, bailarines, cantores, titireteros y entretenían a su público en las plaz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Mester” significa oficio, por lo tanto fue el nombre que optaron los juglar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También se les llama Mester de Juglaría por la forma en que componen y narran las histori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Estos poemas constan de una métrica irregular de improvisaciones ya que su transmisión es oral y su tema consta de hechos heroicos y hazañas bélicas. Obras más importante es El Mío Ci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Picture 4" descr="juglar%20castellano"/>
          <p:cNvPicPr/>
          <p:nvPr/>
        </p:nvPicPr>
        <p:blipFill>
          <a:blip r:embed="rId1"/>
          <a:stretch/>
        </p:blipFill>
        <p:spPr>
          <a:xfrm>
            <a:off x="7086600" y="228600"/>
            <a:ext cx="182880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228600" y="304920"/>
            <a:ext cx="8610480" cy="60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l caudillo que más contribuyó al afianzamiento de las armas cristianas en la lucha contra los moros fue Rodrigo Díaz de Vivar, más conocido en la literatura y la historia como “el Cid”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 u="sng">
                <a:solidFill>
                  <a:srgbClr val="ffffff"/>
                </a:solidFill>
                <a:uFillTx/>
                <a:latin typeface="Comic Sans MS"/>
              </a:rPr>
              <a:t>“</a:t>
            </a:r>
            <a:r>
              <a:rPr b="1" lang="es-HN" sz="2400" spc="-1" strike="noStrike" u="sng">
                <a:solidFill>
                  <a:srgbClr val="ffffff"/>
                </a:solidFill>
                <a:uFillTx/>
                <a:latin typeface="Comic Sans MS"/>
              </a:rPr>
              <a:t>CANTAR DEL MIO CID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l </a:t>
            </a:r>
            <a:r>
              <a:rPr b="1" i="1" lang="es-ES" sz="2400" spc="-1" strike="noStrike">
                <a:solidFill>
                  <a:srgbClr val="ffffff"/>
                </a:solidFill>
                <a:latin typeface="Comic Sans MS"/>
              </a:rPr>
              <a:t>Cantar de mío Cid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es un cantar de gesta anónimo que relata hazañas heroicas inspiradas en los últimos años de vida del caballero castellano Rodrigo Díaz de Viva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Es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primera obra narrativa extensa de la literatura española en una lengua roma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09480" y="533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l poema consta de 3.735 versos de extensión variable, aunque dominan versos de 14 a 16 sílabas métric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Los versos del </a:t>
            </a:r>
            <a:r>
              <a:rPr b="1" i="1" lang="es-ES" sz="2400" spc="-1" strike="noStrike">
                <a:solidFill>
                  <a:srgbClr val="ffffff"/>
                </a:solidFill>
                <a:latin typeface="Comic Sans MS"/>
              </a:rPr>
              <a:t>Cantar de mío Cid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están divididos en dos hemistiquios separados por ces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5" descr="ci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505320"/>
            <a:ext cx="2286000" cy="161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00002564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77120" y="3352680"/>
            <a:ext cx="2008080" cy="2667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300px-Cantar_de_mio_Cid_f"/>
          <p:cNvPicPr/>
          <p:nvPr/>
        </p:nvPicPr>
        <p:blipFill>
          <a:blip r:embed="rId5"/>
          <a:stretch/>
        </p:blipFill>
        <p:spPr>
          <a:xfrm>
            <a:off x="3048120" y="2895480"/>
            <a:ext cx="309708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2514600" y="685800"/>
            <a:ext cx="6324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76320">
                  <a:solidFill>
                    <a:srgbClr val="0066ff"/>
                  </a:solidFill>
                  <a:miter/>
                </a:ln>
                <a:noFill/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Mester de Clerecìa</a:t>
            </a:r>
            <a:endParaRPr b="1" lang="en-US" sz="2400" spc="1" strike="noStrike">
              <a:ln w="76320">
                <a:solidFill>
                  <a:srgbClr val="0066ff"/>
                </a:solidFill>
                <a:miter/>
              </a:ln>
              <a:noFill/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  <p:pic>
        <p:nvPicPr>
          <p:cNvPr id="149" name="Picture 3" descr="foto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152280" y="2362320"/>
            <a:ext cx="883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Al Mester de juglaría se contrapone en la literatura medieval española el llamado Mester de Clerecí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Se le conoce cómo Mester de Clerecía debido a su forma de escribir y las obras creadas entre los siglos XIII y XIV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Los clérigos, durante del siglo XIII hicieron que no todo el mundo entendiera latín, entonces comezaron a escribir en castellan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Clérigo es sinónimo de hombre culto y letrad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La literatura Clerecía es más perfecta desde el punto de vista formal, se atiene a las reglas métricas y emplea recursos literarios y temas filosóficos desconocidos para los jug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 u="sng">
                <a:solidFill>
                  <a:srgbClr val="ffffff"/>
                </a:solidFill>
                <a:uFillTx/>
                <a:latin typeface="Comic Sans MS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Son obras cul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Se escriben y van firmadas por su au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Tratan normalmente de temas religio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Se escriben para enseñar a la g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Están escritas en ver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29893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4191120"/>
            <a:ext cx="3029040" cy="2361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Image137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77120" y="4191120"/>
            <a:ext cx="1904760" cy="2385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6000" spc="-1" strike="noStrike">
                <a:solidFill>
                  <a:srgbClr val="ffffff"/>
                </a:solidFill>
                <a:latin typeface="Showcard Gothic"/>
              </a:rPr>
              <a:t>Introdu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Se denomina literatura medieval a todos aquellos trabajos escritos principalmente en Europa durante la Edad Media, que comprende la caída del Imperio Romano de Occidente hasta los inicios del Renacimiento a finales del siglo XV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0" y="269568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3" name="Group 23"/>
          <p:cNvGrpSpPr/>
          <p:nvPr/>
        </p:nvGrpSpPr>
        <p:grpSpPr>
          <a:xfrm>
            <a:off x="304920" y="1676520"/>
            <a:ext cx="8838000" cy="4875480"/>
            <a:chOff x="304920" y="1676520"/>
            <a:chExt cx="8838000" cy="4875480"/>
          </a:xfrm>
        </p:grpSpPr>
        <p:sp>
          <p:nvSpPr>
            <p:cNvPr id="154" name="Rectangle 5"/>
            <p:cNvSpPr/>
            <p:nvPr/>
          </p:nvSpPr>
          <p:spPr>
            <a:xfrm>
              <a:off x="304920" y="1676520"/>
              <a:ext cx="196920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5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Aspectos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Rectangle 6"/>
            <p:cNvSpPr/>
            <p:nvPr/>
          </p:nvSpPr>
          <p:spPr>
            <a:xfrm>
              <a:off x="2274120" y="1676520"/>
              <a:ext cx="337284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5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Mester de Juglaría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Rectangle 7"/>
            <p:cNvSpPr/>
            <p:nvPr/>
          </p:nvSpPr>
          <p:spPr>
            <a:xfrm>
              <a:off x="5646960" y="1676520"/>
              <a:ext cx="349596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5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Mester de Clerecía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Rectangle 8"/>
            <p:cNvSpPr/>
            <p:nvPr/>
          </p:nvSpPr>
          <p:spPr>
            <a:xfrm>
              <a:off x="304920" y="2488680"/>
              <a:ext cx="196920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500" spc="-1" strike="noStrike">
                  <a:solidFill>
                    <a:srgbClr val="ffffff"/>
                  </a:solidFill>
                  <a:latin typeface="Comic Sans MS"/>
                </a:rPr>
                <a:t>Autor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Rectangle 9"/>
            <p:cNvSpPr/>
            <p:nvPr/>
          </p:nvSpPr>
          <p:spPr>
            <a:xfrm>
              <a:off x="2274120" y="2488680"/>
              <a:ext cx="337284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500" spc="-1" strike="noStrike">
                  <a:solidFill>
                    <a:srgbClr val="ffffff"/>
                  </a:solidFill>
                  <a:latin typeface="Comic Sans MS"/>
                </a:rPr>
                <a:t>Un juglar anónimo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Rectangle 10"/>
            <p:cNvSpPr/>
            <p:nvPr/>
          </p:nvSpPr>
          <p:spPr>
            <a:xfrm>
              <a:off x="5646960" y="2488680"/>
              <a:ext cx="349596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500" spc="-1" strike="noStrike">
                  <a:solidFill>
                    <a:srgbClr val="ffffff"/>
                  </a:solidFill>
                  <a:latin typeface="Comic Sans MS"/>
                </a:rPr>
                <a:t>Un clérigo conocido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Rectangle 11"/>
            <p:cNvSpPr/>
            <p:nvPr/>
          </p:nvSpPr>
          <p:spPr>
            <a:xfrm>
              <a:off x="304920" y="3301200"/>
              <a:ext cx="196920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500" spc="-1" strike="noStrike">
                  <a:solidFill>
                    <a:srgbClr val="ffffff"/>
                  </a:solidFill>
                  <a:latin typeface="Comic Sans MS"/>
                </a:rPr>
                <a:t>Transmisión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Rectangle 12"/>
            <p:cNvSpPr/>
            <p:nvPr/>
          </p:nvSpPr>
          <p:spPr>
            <a:xfrm>
              <a:off x="2274120" y="3301200"/>
              <a:ext cx="337284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500" spc="-1" strike="noStrike">
                  <a:solidFill>
                    <a:srgbClr val="ffffff"/>
                  </a:solidFill>
                  <a:latin typeface="Comic Sans MS"/>
                </a:rPr>
                <a:t>Oral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Rectangle 13"/>
            <p:cNvSpPr/>
            <p:nvPr/>
          </p:nvSpPr>
          <p:spPr>
            <a:xfrm>
              <a:off x="5646960" y="3301200"/>
              <a:ext cx="349596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500" spc="-1" strike="noStrike">
                  <a:solidFill>
                    <a:srgbClr val="ffffff"/>
                  </a:solidFill>
                  <a:latin typeface="Comic Sans MS"/>
                </a:rPr>
                <a:t>Escrita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Rectangle 14"/>
            <p:cNvSpPr/>
            <p:nvPr/>
          </p:nvSpPr>
          <p:spPr>
            <a:xfrm>
              <a:off x="304920" y="4113720"/>
              <a:ext cx="196920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500" spc="-1" strike="noStrike">
                  <a:solidFill>
                    <a:srgbClr val="ffffff"/>
                  </a:solidFill>
                  <a:latin typeface="Comic Sans MS"/>
                </a:rPr>
                <a:t>Temas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Rectangle 15"/>
            <p:cNvSpPr/>
            <p:nvPr/>
          </p:nvSpPr>
          <p:spPr>
            <a:xfrm>
              <a:off x="2274120" y="4113720"/>
              <a:ext cx="337284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500" spc="-1" strike="noStrike">
                  <a:solidFill>
                    <a:srgbClr val="ffffff"/>
                  </a:solidFill>
                  <a:latin typeface="Comic Sans MS"/>
                </a:rPr>
                <a:t>Hazañas de héroes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Rectangle 16"/>
            <p:cNvSpPr/>
            <p:nvPr/>
          </p:nvSpPr>
          <p:spPr>
            <a:xfrm>
              <a:off x="5646960" y="4113720"/>
              <a:ext cx="349596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500" spc="-1" strike="noStrike">
                  <a:solidFill>
                    <a:srgbClr val="ffffff"/>
                  </a:solidFill>
                  <a:latin typeface="Comic Sans MS"/>
                </a:rPr>
                <a:t>Religiosos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Rectangle 17"/>
            <p:cNvSpPr/>
            <p:nvPr/>
          </p:nvSpPr>
          <p:spPr>
            <a:xfrm>
              <a:off x="304920" y="4925880"/>
              <a:ext cx="196920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500" spc="-1" strike="noStrike">
                  <a:solidFill>
                    <a:srgbClr val="ffffff"/>
                  </a:solidFill>
                  <a:latin typeface="Comic Sans MS"/>
                </a:rPr>
                <a:t>Finalidad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Rectangle 18"/>
            <p:cNvSpPr/>
            <p:nvPr/>
          </p:nvSpPr>
          <p:spPr>
            <a:xfrm>
              <a:off x="2274120" y="4925880"/>
              <a:ext cx="337284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500" spc="-1" strike="noStrike">
                  <a:solidFill>
                    <a:srgbClr val="ffffff"/>
                  </a:solidFill>
                  <a:latin typeface="Comic Sans MS"/>
                </a:rPr>
                <a:t>Entretener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Rectangle 19"/>
            <p:cNvSpPr/>
            <p:nvPr/>
          </p:nvSpPr>
          <p:spPr>
            <a:xfrm>
              <a:off x="5646960" y="4925880"/>
              <a:ext cx="349596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500" spc="-1" strike="noStrike">
                  <a:solidFill>
                    <a:srgbClr val="ffffff"/>
                  </a:solidFill>
                  <a:latin typeface="Comic Sans MS"/>
                </a:rPr>
                <a:t>Enseñar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Rectangle 20"/>
            <p:cNvSpPr/>
            <p:nvPr/>
          </p:nvSpPr>
          <p:spPr>
            <a:xfrm>
              <a:off x="304920" y="5738400"/>
              <a:ext cx="1969200" cy="81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500" spc="-1" strike="noStrike">
                  <a:solidFill>
                    <a:srgbClr val="ffffff"/>
                  </a:solidFill>
                  <a:latin typeface="Comic Sans MS"/>
                </a:rPr>
                <a:t>Métrica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Rectangle 21"/>
            <p:cNvSpPr/>
            <p:nvPr/>
          </p:nvSpPr>
          <p:spPr>
            <a:xfrm>
              <a:off x="2274120" y="5738400"/>
              <a:ext cx="3372840" cy="81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500" spc="-1" strike="noStrike">
                  <a:solidFill>
                    <a:srgbClr val="ffffff"/>
                  </a:solidFill>
                  <a:latin typeface="Comic Sans MS"/>
                </a:rPr>
                <a:t>Versos octosílabos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Rectangle 22"/>
            <p:cNvSpPr/>
            <p:nvPr/>
          </p:nvSpPr>
          <p:spPr>
            <a:xfrm>
              <a:off x="5646960" y="5738400"/>
              <a:ext cx="3495960" cy="81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500" spc="-1" strike="noStrike">
                  <a:solidFill>
                    <a:srgbClr val="ffffff"/>
                  </a:solidFill>
                  <a:latin typeface="Comic Sans MS"/>
                </a:rPr>
                <a:t>Cuaderna vía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2" name="WordArt 24"/>
          <p:cNvSpPr txBox="1"/>
          <p:nvPr/>
        </p:nvSpPr>
        <p:spPr>
          <a:xfrm>
            <a:off x="762120" y="457200"/>
            <a:ext cx="7467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57240">
                  <a:solidFill>
                    <a:srgbClr val="006699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Cuadro Comparativo</a:t>
            </a:r>
            <a:endParaRPr b="1" lang="en-US" sz="2400" spc="1" strike="noStrike">
              <a:ln w="57240">
                <a:solidFill>
                  <a:srgbClr val="006699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7596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Nació en Berceo, La Rioja, en los últimos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años del siglo XI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Se educó en el monasterio de San Millán 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de La Cogoll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Con él se inicia el mester de clerecía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WordArt 5"/>
          <p:cNvSpPr txBox="1"/>
          <p:nvPr/>
        </p:nvSpPr>
        <p:spPr>
          <a:xfrm>
            <a:off x="1219320" y="380880"/>
            <a:ext cx="6400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724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Gonzalo de Berceo</a:t>
            </a:r>
            <a:endParaRPr b="0" lang="en-US" sz="2400" spc="1" strike="noStrike">
              <a:ln w="57240">
                <a:solidFill>
                  <a:srgbClr val="ff66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  <p:pic>
        <p:nvPicPr>
          <p:cNvPr id="175" name="Picture 9" descr="gonzadeberce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1981080"/>
            <a:ext cx="1743120" cy="4419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http://tbn0.google.com/images?q=tbn:MAQUiizHlz6edM:http://www.uark.edu/depts/flaninfo/4213webpage06/%2520Images/juglar%2520castellan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81080" y="4191120"/>
            <a:ext cx="236232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8"/>
          <p:cNvSpPr txBox="1"/>
          <p:nvPr/>
        </p:nvSpPr>
        <p:spPr>
          <a:xfrm>
            <a:off x="533520" y="533520"/>
            <a:ext cx="64767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57240">
                  <a:solidFill>
                    <a:srgbClr val="996633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Obras de Gonzalo de Berceo</a:t>
            </a:r>
            <a:endParaRPr b="1" lang="en-US" sz="2400" spc="1" strike="noStrike">
              <a:ln w="57240">
                <a:solidFill>
                  <a:srgbClr val="996633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762120" y="2286000"/>
            <a:ext cx="754380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300" spc="-1" strike="noStrike" u="sng">
                <a:solidFill>
                  <a:srgbClr val="ffffff"/>
                </a:solidFill>
                <a:uFillTx/>
                <a:latin typeface="Comic Sans MS"/>
              </a:rPr>
              <a:t>Sobre la vida de los santos:</a:t>
            </a:r>
            <a:r>
              <a:rPr b="1" lang="es-HN" sz="2300" spc="-1" strike="noStrike">
                <a:solidFill>
                  <a:srgbClr val="ffffff"/>
                </a:solidFill>
                <a:latin typeface="Comic Sans MS"/>
              </a:rPr>
              <a:t> Vida de Santo Domingo de Silos, Vida de San Millán de la Cogolla y Vida de Santa Oria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300" spc="-1" strike="noStrike" u="sng">
                <a:solidFill>
                  <a:srgbClr val="ffffff"/>
                </a:solidFill>
                <a:uFillTx/>
                <a:latin typeface="Comic Sans MS"/>
              </a:rPr>
              <a:t>Poemas dedicados a la Virgen</a:t>
            </a:r>
            <a:r>
              <a:rPr b="1" lang="es-HN" sz="2300" spc="-1" strike="noStrike">
                <a:solidFill>
                  <a:srgbClr val="ffffff"/>
                </a:solidFill>
                <a:latin typeface="Comic Sans MS"/>
              </a:rPr>
              <a:t>: Dolores de Nuestra Señora, Duelo que hizo la Virgen el día de la Pasión de su Hijo y Milagros de Nuestra Señora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300" spc="-1" strike="noStrike" u="sng">
                <a:solidFill>
                  <a:srgbClr val="ffffff"/>
                </a:solidFill>
                <a:uFillTx/>
                <a:latin typeface="Comic Sans MS"/>
              </a:rPr>
              <a:t>Poemas de contenido religioso</a:t>
            </a:r>
            <a:r>
              <a:rPr b="1" lang="es-HN" sz="2300" spc="-1" strike="noStrike">
                <a:solidFill>
                  <a:srgbClr val="ffffff"/>
                </a:solidFill>
                <a:latin typeface="Comic Sans MS"/>
              </a:rPr>
              <a:t>: El Sacrifico de la Misa, Los Signos del Juicio Final y Martirio de San Lorenzo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15" descr="codice"/>
          <p:cNvPicPr/>
          <p:nvPr/>
        </p:nvPicPr>
        <p:blipFill>
          <a:blip r:embed="rId1"/>
          <a:stretch/>
        </p:blipFill>
        <p:spPr>
          <a:xfrm>
            <a:off x="7391520" y="228600"/>
            <a:ext cx="132552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5"/>
          <p:cNvSpPr txBox="1"/>
          <p:nvPr/>
        </p:nvSpPr>
        <p:spPr>
          <a:xfrm>
            <a:off x="2209680" y="457200"/>
            <a:ext cx="6782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7240">
                  <a:solidFill>
                    <a:srgbClr val="66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Showcard Gothic"/>
              </a:rPr>
              <a:t>Milagros de Nuestra Señora</a:t>
            </a:r>
            <a:endParaRPr b="0" lang="en-US" sz="2400" spc="1" strike="noStrike">
              <a:ln w="57240">
                <a:solidFill>
                  <a:srgbClr val="66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0880" y="1981080"/>
            <a:ext cx="815364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Obra más extensa e importante de Berceo, compuesta de vienticinco narraciones precedidas que vienen de una introducción alegóric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Habla de los milagros que hace la Virgen para salvar a sus devotos de algún mal o protegerlo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En la obra vemos como la Virgen salva a un ladrón que va a ser ahorcado, la Virgen con sus manos en la soga lo salva de la muert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Teófilo, vende su alma al diablo por codicia, la Virgen al ver su arrepentiemiento salva el documento que está en vent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8" descr="IMG_5273"/>
          <p:cNvPicPr/>
          <p:nvPr/>
        </p:nvPicPr>
        <p:blipFill>
          <a:blip r:embed="rId1"/>
          <a:stretch/>
        </p:blipFill>
        <p:spPr>
          <a:xfrm>
            <a:off x="152280" y="174600"/>
            <a:ext cx="198144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LIO"/>
          <p:cNvPicPr/>
          <p:nvPr/>
        </p:nvPicPr>
        <p:blipFill>
          <a:blip r:embed="rId1"/>
          <a:stretch/>
        </p:blipFill>
        <p:spPr>
          <a:xfrm>
            <a:off x="6400800" y="152280"/>
            <a:ext cx="2362320" cy="1720800"/>
          </a:xfrm>
          <a:prstGeom prst="rect">
            <a:avLst/>
          </a:prstGeom>
          <a:ln w="0">
            <a:noFill/>
          </a:ln>
        </p:spPr>
      </p:pic>
      <p:sp>
        <p:nvSpPr>
          <p:cNvPr id="184" name="WordArt 3"/>
          <p:cNvSpPr txBox="1"/>
          <p:nvPr/>
        </p:nvSpPr>
        <p:spPr>
          <a:xfrm>
            <a:off x="457200" y="228600"/>
            <a:ext cx="5562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763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Poesía Lírica</a:t>
            </a:r>
            <a:endParaRPr b="0" lang="en-US" sz="2400" spc="1" strike="noStrike">
              <a:ln w="7632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52280" y="1905120"/>
            <a:ext cx="883944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Las Jarchas representan el primer testimonio escrito de una lengua romance. Son versitos que rematan o culminan una forma de poema llamada </a:t>
            </a:r>
            <a:r>
              <a:rPr b="1" i="1" lang="es-HN" sz="2400" spc="-1" strike="noStrike">
                <a:solidFill>
                  <a:srgbClr val="ffffff"/>
                </a:solidFill>
                <a:latin typeface="Comic Sans MS"/>
              </a:rPr>
              <a:t>muaxaja,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 escrito hacia el siglo X y XI, en lengua árabe o judía</a:t>
            </a:r>
            <a:r>
              <a:rPr b="0" lang="es-HN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 u="sng">
                <a:solidFill>
                  <a:srgbClr val="ffffff"/>
                </a:solidFill>
                <a:uFillTx/>
                <a:latin typeface="Comic Sans MS"/>
              </a:rPr>
              <a:t>Definición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1. La poesía lírica más antigua en lengua romance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(ss. XI y XII)</a:t>
            </a:r>
            <a:br>
              <a:rPr sz="2400"/>
            </a:b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2. Es de origen popular. </a:t>
            </a:r>
            <a:br>
              <a:rPr sz="2400"/>
            </a:b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3. Es en lenguaje mozárabe </a:t>
            </a:r>
            <a:br>
              <a:rPr sz="2400"/>
            </a:b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4. Escrita en letra árabe o hebrea </a:t>
            </a:r>
            <a:br>
              <a:rPr sz="2400"/>
            </a:b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5. El final de un poema más largo, llamado moaxaja</a:t>
            </a:r>
            <a:r>
              <a:rPr b="0" lang="es-HN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4"/>
          <p:cNvSpPr txBox="1"/>
          <p:nvPr/>
        </p:nvSpPr>
        <p:spPr>
          <a:xfrm>
            <a:off x="304920" y="304920"/>
            <a:ext cx="632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7240">
                  <a:solidFill>
                    <a:srgbClr val="996633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Showcard Gothic"/>
              </a:rPr>
              <a:t>Alfonso X: El Sabio</a:t>
            </a:r>
            <a:endParaRPr b="0" lang="en-US" sz="2400" spc="1" strike="noStrike">
              <a:ln w="57240">
                <a:solidFill>
                  <a:srgbClr val="996633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  <p:pic>
        <p:nvPicPr>
          <p:cNvPr id="187" name="Picture 6" descr="integra"/>
          <p:cNvPicPr/>
          <p:nvPr/>
        </p:nvPicPr>
        <p:blipFill>
          <a:blip r:embed="rId1"/>
          <a:stretch/>
        </p:blipFill>
        <p:spPr>
          <a:xfrm>
            <a:off x="6858000" y="228600"/>
            <a:ext cx="1752480" cy="1809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7"/>
          <p:cNvSpPr/>
          <p:nvPr/>
        </p:nvSpPr>
        <p:spPr>
          <a:xfrm>
            <a:off x="304920" y="1600200"/>
            <a:ext cx="8458200" cy="49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Fue el rey de Castilla y León de 1252-1284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Hijo de Fernando III y Beatriz de Suabi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Una de sus etapas más importantes fue su labor legisladora, bajo su mando se organizaron textos jurídicos, tanto como doctrinales como narrativo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Sus obras de mayor importancia en este terreno fueron: Fuero Real, el Espéculo y las Siete Partida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Debido a sus éxitos en el campo de la cultura se le dió el apelativo ‘Sabio.’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En la poesía Alfonso X nos transmitió un gran repertorio de Cantigas, son mejor conocidas por su carácter religioso o de Santa Marí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457200" y="380880"/>
            <a:ext cx="8229600" cy="59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Hace estudios musicales y sobresale con la obra que salió de los talleres alfonsinos llamadas Libros de axedrez, dados e tabla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Las Cantigas de Santa María es una obra lírica, fue escrita en gallego-portugués, lo cual es lengua común de la gran parte lírica ibérica del siglo XIII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Las siete partidas es un cuerpo normativo narrado en Castilla, durante el reinado de Alfonso X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El nombre original era Libro de las Leyes, hasta que en el siglo XIV recibió el actual nombre, el cual conocemo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Es el legado más importante de España, ya que es un texto jurídico de más vigencia en Iberoamérica, hasta el siglo XIX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Se le ha catalogado como enciclopedia humanista porque contiene temas filosóficos, morales y teológico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Portada de Las Siete Partidas. Ejemplar de 1555, glosado por Gregorio Lópe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2104920" cy="273384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6"/>
          <p:cNvSpPr/>
          <p:nvPr/>
        </p:nvSpPr>
        <p:spPr>
          <a:xfrm>
            <a:off x="2514600" y="1295280"/>
            <a:ext cx="838080" cy="457200"/>
          </a:xfrm>
          <a:prstGeom prst="leftArrow">
            <a:avLst>
              <a:gd name="adj1" fmla="val 50000"/>
              <a:gd name="adj2" fmla="val 4582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WordArt 7"/>
          <p:cNvSpPr txBox="1"/>
          <p:nvPr/>
        </p:nvSpPr>
        <p:spPr>
          <a:xfrm>
            <a:off x="304920" y="4572000"/>
            <a:ext cx="160020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00395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risten ITC"/>
              </a:rPr>
              <a:t>Libro</a:t>
            </a:r>
            <a:endParaRPr b="1" lang="en-US" sz="2400" spc="1" strike="noStrike">
              <a:ln w="25560">
                <a:solidFill>
                  <a:srgbClr val="3366ff"/>
                </a:solidFill>
                <a:miter/>
              </a:ln>
              <a:solidFill>
                <a:srgbClr val="00395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00395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risten ITC"/>
              </a:rPr>
              <a:t>de</a:t>
            </a:r>
            <a:endParaRPr b="1" lang="en-US" sz="2400" spc="1" strike="noStrike">
              <a:ln w="25560">
                <a:solidFill>
                  <a:srgbClr val="3366ff"/>
                </a:solidFill>
                <a:miter/>
              </a:ln>
              <a:solidFill>
                <a:srgbClr val="00395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00395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risten ITC"/>
              </a:rPr>
              <a:t>Ajedrez</a:t>
            </a:r>
            <a:endParaRPr b="1" lang="en-US" sz="2400" spc="1" strike="noStrike">
              <a:ln w="25560">
                <a:solidFill>
                  <a:srgbClr val="3366ff"/>
                </a:solidFill>
                <a:miter/>
              </a:ln>
              <a:solidFill>
                <a:srgbClr val="00395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</p:txBody>
      </p:sp>
      <p:pic>
        <p:nvPicPr>
          <p:cNvPr id="193" name="Picture 9" descr="f12-01"/>
          <p:cNvPicPr/>
          <p:nvPr/>
        </p:nvPicPr>
        <p:blipFill>
          <a:blip r:embed="rId3"/>
          <a:stretch/>
        </p:blipFill>
        <p:spPr>
          <a:xfrm>
            <a:off x="5257800" y="457200"/>
            <a:ext cx="2514600" cy="304812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10"/>
          <p:cNvSpPr/>
          <p:nvPr/>
        </p:nvSpPr>
        <p:spPr>
          <a:xfrm rot="16200000">
            <a:off x="7505640" y="2857320"/>
            <a:ext cx="1219320" cy="533160"/>
          </a:xfrm>
          <a:custGeom>
            <a:avLst/>
            <a:gdLst>
              <a:gd name="textAreaLeft" fmla="*/ 0 w 1219320"/>
              <a:gd name="textAreaRight" fmla="*/ 1045080 w 1219320"/>
              <a:gd name="textAreaTop" fmla="*/ 35568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WordArt 11"/>
          <p:cNvSpPr txBox="1"/>
          <p:nvPr/>
        </p:nvSpPr>
        <p:spPr>
          <a:xfrm>
            <a:off x="6553080" y="3886200"/>
            <a:ext cx="23050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2320">
                  <a:solidFill>
                    <a:srgbClr val="0066ff"/>
                  </a:solidFill>
                  <a:miter/>
                </a:ln>
                <a:solidFill>
                  <a:srgbClr val="00395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risten ITC"/>
              </a:rPr>
              <a:t>Las Cantigas de</a:t>
            </a:r>
            <a:endParaRPr b="1" lang="en-US" sz="2400" spc="1" strike="noStrike">
              <a:ln w="22320">
                <a:solidFill>
                  <a:srgbClr val="0066ff"/>
                </a:solidFill>
                <a:miter/>
              </a:ln>
              <a:solidFill>
                <a:srgbClr val="00395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2320">
                  <a:solidFill>
                    <a:srgbClr val="0066ff"/>
                  </a:solidFill>
                  <a:miter/>
                </a:ln>
                <a:solidFill>
                  <a:srgbClr val="00395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risten ITC"/>
              </a:rPr>
              <a:t>Santa María</a:t>
            </a:r>
            <a:endParaRPr b="1" lang="en-US" sz="2400" spc="1" strike="noStrike">
              <a:ln w="22320">
                <a:solidFill>
                  <a:srgbClr val="0066ff"/>
                </a:solidFill>
                <a:miter/>
              </a:ln>
              <a:solidFill>
                <a:srgbClr val="00395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</p:txBody>
      </p:sp>
      <p:pic>
        <p:nvPicPr>
          <p:cNvPr id="196" name="Picture 18" descr="2019"/>
          <p:cNvPicPr/>
          <p:nvPr/>
        </p:nvPicPr>
        <p:blipFill>
          <a:blip r:embed="rId4"/>
          <a:stretch/>
        </p:blipFill>
        <p:spPr>
          <a:xfrm>
            <a:off x="2666880" y="3276720"/>
            <a:ext cx="2244960" cy="3047760"/>
          </a:xfrm>
          <a:prstGeom prst="rect">
            <a:avLst/>
          </a:prstGeom>
          <a:ln w="0">
            <a:noFill/>
          </a:ln>
        </p:spPr>
      </p:pic>
      <p:sp>
        <p:nvSpPr>
          <p:cNvPr id="197" name="WordArt 19"/>
          <p:cNvSpPr txBox="1"/>
          <p:nvPr/>
        </p:nvSpPr>
        <p:spPr>
          <a:xfrm>
            <a:off x="3429000" y="1219320"/>
            <a:ext cx="1600200" cy="10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00395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risten ITC"/>
              </a:rPr>
              <a:t>Las </a:t>
            </a:r>
            <a:endParaRPr b="1" lang="en-US" sz="2400" spc="1" strike="noStrike">
              <a:ln w="25560">
                <a:solidFill>
                  <a:srgbClr val="3366ff"/>
                </a:solidFill>
                <a:miter/>
              </a:ln>
              <a:solidFill>
                <a:srgbClr val="00395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00395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risten ITC"/>
              </a:rPr>
              <a:t>Siete </a:t>
            </a:r>
            <a:endParaRPr b="1" lang="en-US" sz="2400" spc="1" strike="noStrike">
              <a:ln w="25560">
                <a:solidFill>
                  <a:srgbClr val="3366ff"/>
                </a:solidFill>
                <a:miter/>
              </a:ln>
              <a:solidFill>
                <a:srgbClr val="00395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00395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risten ITC"/>
              </a:rPr>
              <a:t>Partidas</a:t>
            </a:r>
            <a:endParaRPr b="1" lang="en-US" sz="2400" spc="1" strike="noStrike">
              <a:ln w="25560">
                <a:solidFill>
                  <a:srgbClr val="3366ff"/>
                </a:solidFill>
                <a:miter/>
              </a:ln>
              <a:solidFill>
                <a:srgbClr val="00395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</p:txBody>
      </p:sp>
      <p:sp>
        <p:nvSpPr>
          <p:cNvPr id="198" name="AutoShape 20"/>
          <p:cNvSpPr/>
          <p:nvPr/>
        </p:nvSpPr>
        <p:spPr>
          <a:xfrm>
            <a:off x="1066680" y="3657600"/>
            <a:ext cx="1371600" cy="685800"/>
          </a:xfrm>
          <a:custGeom>
            <a:avLst/>
            <a:gdLst>
              <a:gd name="textAreaLeft" fmla="*/ 789120 w 1371600"/>
              <a:gd name="textAreaRight" fmla="*/ 1178280 w 1371600"/>
              <a:gd name="textAreaTop" fmla="*/ 114120 h 685800"/>
              <a:gd name="textAreaBottom" fmla="*/ 27180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125" y="0"/>
                </a:lnTo>
                <a:lnTo>
                  <a:pt x="14125" y="3600"/>
                </a:lnTo>
                <a:lnTo>
                  <a:pt x="12427" y="3600"/>
                </a:lnTo>
                <a:cubicBezTo>
                  <a:pt x="5564" y="3600"/>
                  <a:pt x="0" y="7432"/>
                  <a:pt x="0" y="12158"/>
                </a:cubicBezTo>
                <a:lnTo>
                  <a:pt x="0" y="21600"/>
                </a:lnTo>
                <a:lnTo>
                  <a:pt x="5068" y="21600"/>
                </a:lnTo>
                <a:lnTo>
                  <a:pt x="5068" y="12158"/>
                </a:lnTo>
                <a:cubicBezTo>
                  <a:pt x="5068" y="10170"/>
                  <a:pt x="8363" y="8558"/>
                  <a:pt x="12427" y="8558"/>
                </a:cubicBezTo>
                <a:lnTo>
                  <a:pt x="14125" y="8558"/>
                </a:lnTo>
                <a:lnTo>
                  <a:pt x="14125" y="1215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4"/>
          <p:cNvSpPr txBox="1"/>
          <p:nvPr/>
        </p:nvSpPr>
        <p:spPr>
          <a:xfrm>
            <a:off x="762120" y="30492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5724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Cuadro Comparativo</a:t>
            </a:r>
            <a:endParaRPr b="1" lang="en-US" sz="2400" spc="1" strike="noStrike">
              <a:ln w="57240">
                <a:solidFill>
                  <a:srgbClr val="0080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  <p:grpSp>
        <p:nvGrpSpPr>
          <p:cNvPr id="200" name="Group 45"/>
          <p:cNvGrpSpPr/>
          <p:nvPr/>
        </p:nvGrpSpPr>
        <p:grpSpPr>
          <a:xfrm>
            <a:off x="304920" y="1219320"/>
            <a:ext cx="8838000" cy="4875480"/>
            <a:chOff x="304920" y="1219320"/>
            <a:chExt cx="8838000" cy="4875480"/>
          </a:xfrm>
        </p:grpSpPr>
        <p:sp>
          <p:nvSpPr>
            <p:cNvPr id="201" name="Rectangle 46"/>
            <p:cNvSpPr/>
            <p:nvPr/>
          </p:nvSpPr>
          <p:spPr>
            <a:xfrm>
              <a:off x="304920" y="1219320"/>
              <a:ext cx="196920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Rectangle 47"/>
            <p:cNvSpPr/>
            <p:nvPr/>
          </p:nvSpPr>
          <p:spPr>
            <a:xfrm>
              <a:off x="2274120" y="1219320"/>
              <a:ext cx="337284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5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Las Cantigas de Santa María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Rectangle 48"/>
            <p:cNvSpPr/>
            <p:nvPr/>
          </p:nvSpPr>
          <p:spPr>
            <a:xfrm>
              <a:off x="5646960" y="1219320"/>
              <a:ext cx="349596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5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Los Milagros de Nuestra Señora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Rectangle 49"/>
            <p:cNvSpPr/>
            <p:nvPr/>
          </p:nvSpPr>
          <p:spPr>
            <a:xfrm>
              <a:off x="304920" y="2031480"/>
              <a:ext cx="196920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500" spc="-1" strike="noStrike">
                  <a:solidFill>
                    <a:srgbClr val="ffffff"/>
                  </a:solidFill>
                  <a:latin typeface="Comic Sans MS"/>
                </a:rPr>
                <a:t>Idioma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Rectangle 50"/>
            <p:cNvSpPr/>
            <p:nvPr/>
          </p:nvSpPr>
          <p:spPr>
            <a:xfrm>
              <a:off x="2274120" y="2031480"/>
              <a:ext cx="337284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500" spc="-1" strike="noStrike">
                  <a:solidFill>
                    <a:srgbClr val="ffffff"/>
                  </a:solidFill>
                  <a:latin typeface="Comic Sans MS"/>
                </a:rPr>
                <a:t>Gallego-Portugues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Rectangle 51"/>
            <p:cNvSpPr/>
            <p:nvPr/>
          </p:nvSpPr>
          <p:spPr>
            <a:xfrm>
              <a:off x="5646960" y="2031480"/>
              <a:ext cx="349596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500" spc="-1" strike="noStrike">
                  <a:solidFill>
                    <a:srgbClr val="ffffff"/>
                  </a:solidFill>
                  <a:latin typeface="Comic Sans MS"/>
                </a:rPr>
                <a:t>Castellano</a:t>
              </a:r>
              <a:r>
                <a:rPr b="1" lang="es-HN" sz="25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Rectangle 52"/>
            <p:cNvSpPr/>
            <p:nvPr/>
          </p:nvSpPr>
          <p:spPr>
            <a:xfrm>
              <a:off x="304920" y="2844000"/>
              <a:ext cx="196920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Rectangle 53"/>
            <p:cNvSpPr/>
            <p:nvPr/>
          </p:nvSpPr>
          <p:spPr>
            <a:xfrm>
              <a:off x="2274120" y="2844000"/>
              <a:ext cx="337284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Rectangle 54"/>
            <p:cNvSpPr/>
            <p:nvPr/>
          </p:nvSpPr>
          <p:spPr>
            <a:xfrm>
              <a:off x="5646960" y="2844000"/>
              <a:ext cx="349596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Rectangle 55"/>
            <p:cNvSpPr/>
            <p:nvPr/>
          </p:nvSpPr>
          <p:spPr>
            <a:xfrm>
              <a:off x="304920" y="3656520"/>
              <a:ext cx="196920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Rectangle 56"/>
            <p:cNvSpPr/>
            <p:nvPr/>
          </p:nvSpPr>
          <p:spPr>
            <a:xfrm>
              <a:off x="2274120" y="3656520"/>
              <a:ext cx="337284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Rectangle 57"/>
            <p:cNvSpPr/>
            <p:nvPr/>
          </p:nvSpPr>
          <p:spPr>
            <a:xfrm>
              <a:off x="5646960" y="3656520"/>
              <a:ext cx="349596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Rectangle 58"/>
            <p:cNvSpPr/>
            <p:nvPr/>
          </p:nvSpPr>
          <p:spPr>
            <a:xfrm>
              <a:off x="304920" y="4468680"/>
              <a:ext cx="196920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Rectangle 59"/>
            <p:cNvSpPr/>
            <p:nvPr/>
          </p:nvSpPr>
          <p:spPr>
            <a:xfrm>
              <a:off x="2274120" y="4468680"/>
              <a:ext cx="337284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Rectangle 60"/>
            <p:cNvSpPr/>
            <p:nvPr/>
          </p:nvSpPr>
          <p:spPr>
            <a:xfrm>
              <a:off x="5646960" y="4468680"/>
              <a:ext cx="349596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Rectangle 61"/>
            <p:cNvSpPr/>
            <p:nvPr/>
          </p:nvSpPr>
          <p:spPr>
            <a:xfrm>
              <a:off x="304920" y="5281200"/>
              <a:ext cx="1969200" cy="81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Rectangle 62"/>
            <p:cNvSpPr/>
            <p:nvPr/>
          </p:nvSpPr>
          <p:spPr>
            <a:xfrm>
              <a:off x="2274120" y="5281200"/>
              <a:ext cx="3372840" cy="81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Rectangle 63"/>
            <p:cNvSpPr/>
            <p:nvPr/>
          </p:nvSpPr>
          <p:spPr>
            <a:xfrm>
              <a:off x="5646960" y="5281200"/>
              <a:ext cx="3495960" cy="81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9" name="Rectangle 64"/>
          <p:cNvSpPr/>
          <p:nvPr/>
        </p:nvSpPr>
        <p:spPr>
          <a:xfrm>
            <a:off x="304920" y="2743200"/>
            <a:ext cx="18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500" spc="-1" strike="noStrike">
                <a:solidFill>
                  <a:srgbClr val="ffffff"/>
                </a:solidFill>
                <a:latin typeface="Comic Sans MS"/>
              </a:rPr>
              <a:t>Sobresale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Rectangle 66"/>
          <p:cNvSpPr/>
          <p:nvPr/>
        </p:nvSpPr>
        <p:spPr>
          <a:xfrm>
            <a:off x="5715000" y="2666880"/>
            <a:ext cx="3429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500" spc="-1" strike="noStrike">
                <a:solidFill>
                  <a:srgbClr val="ffffff"/>
                </a:solidFill>
                <a:latin typeface="Comic Sans MS"/>
              </a:rPr>
              <a:t>Por su introducción alegórica y poética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Rectangle 67"/>
          <p:cNvSpPr/>
          <p:nvPr/>
        </p:nvSpPr>
        <p:spPr>
          <a:xfrm>
            <a:off x="228600" y="441972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500" spc="-1" strike="noStrike">
                <a:solidFill>
                  <a:srgbClr val="ffffff"/>
                </a:solidFill>
                <a:latin typeface="Comic Sans MS"/>
              </a:rPr>
              <a:t>Resumen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Rectangle 68"/>
          <p:cNvSpPr/>
          <p:nvPr/>
        </p:nvSpPr>
        <p:spPr>
          <a:xfrm>
            <a:off x="5791320" y="4114800"/>
            <a:ext cx="312408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500" spc="-1" strike="noStrike">
                <a:solidFill>
                  <a:srgbClr val="ffffff"/>
                </a:solidFill>
                <a:latin typeface="Comic Sans MS"/>
              </a:rPr>
              <a:t>Se trata de un encuentro de un romero- peregrino- que se encuentra con una mujer bella(Virgen)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69"/>
          <p:cNvSpPr/>
          <p:nvPr/>
        </p:nvSpPr>
        <p:spPr>
          <a:xfrm>
            <a:off x="2244240" y="2743200"/>
            <a:ext cx="129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500" spc="-1" strike="noStrike">
                <a:solidFill>
                  <a:srgbClr val="ffffff"/>
                </a:solidFill>
                <a:latin typeface="Comic Sans MS"/>
              </a:rPr>
              <a:t>Música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70"/>
          <p:cNvSpPr/>
          <p:nvPr/>
        </p:nvSpPr>
        <p:spPr>
          <a:xfrm>
            <a:off x="228600" y="3581280"/>
            <a:ext cx="18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500" spc="-1" strike="noStrike">
                <a:solidFill>
                  <a:srgbClr val="ffffff"/>
                </a:solidFill>
                <a:latin typeface="Comic Sans MS"/>
              </a:rPr>
              <a:t>Métrica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72"/>
          <p:cNvSpPr/>
          <p:nvPr/>
        </p:nvSpPr>
        <p:spPr>
          <a:xfrm>
            <a:off x="2222280" y="3505320"/>
            <a:ext cx="1910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500" spc="-1" strike="noStrike">
                <a:solidFill>
                  <a:srgbClr val="ffffff"/>
                </a:solidFill>
                <a:latin typeface="Comic Sans MS"/>
              </a:rPr>
              <a:t>Miniaturas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Rectangle 73"/>
          <p:cNvSpPr/>
          <p:nvPr/>
        </p:nvSpPr>
        <p:spPr>
          <a:xfrm>
            <a:off x="5651640" y="3581280"/>
            <a:ext cx="22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500" spc="-1" strike="noStrike">
                <a:solidFill>
                  <a:srgbClr val="ffffff"/>
                </a:solidFill>
                <a:latin typeface="Comic Sans MS"/>
              </a:rPr>
              <a:t>Cuadernavía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ectangle 75"/>
          <p:cNvSpPr/>
          <p:nvPr/>
        </p:nvSpPr>
        <p:spPr>
          <a:xfrm>
            <a:off x="1828800" y="419112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100" spc="-1" strike="noStrike">
                <a:solidFill>
                  <a:srgbClr val="ffffff"/>
                </a:solidFill>
                <a:latin typeface="Comic Sans MS"/>
              </a:rPr>
              <a:t>Son </a:t>
            </a:r>
            <a:r>
              <a:rPr b="1" lang="es-ES" sz="2100" spc="-1" strike="noStrike">
                <a:solidFill>
                  <a:srgbClr val="ffffff"/>
                </a:solidFill>
                <a:latin typeface="Comic Sans MS"/>
                <a:ea typeface="Tahoma"/>
              </a:rPr>
              <a:t>alabanzas a la Virgen Santa María</a:t>
            </a:r>
            <a:r>
              <a:rPr b="1" lang="es-HN" sz="2100" spc="-1" strike="noStrike">
                <a:solidFill>
                  <a:srgbClr val="ffffff"/>
                </a:solidFill>
                <a:latin typeface="Comic Sans MS"/>
                <a:ea typeface="Tahoma"/>
              </a:rPr>
              <a:t>. P</a:t>
            </a:r>
            <a:r>
              <a:rPr b="1" lang="es-ES" sz="2100" spc="-1" strike="noStrike">
                <a:solidFill>
                  <a:srgbClr val="ffffff"/>
                </a:solidFill>
                <a:latin typeface="Comic Sans MS"/>
                <a:ea typeface="Tahoma"/>
              </a:rPr>
              <a:t>oemas serios, profundos, casi místicos, en los que en lugar de cantar los milagros de la Virgen se reflexiona sobre ella, como en una oración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600" spc="-1" strike="noStrike">
                <a:solidFill>
                  <a:srgbClr val="ffffff"/>
                </a:solidFill>
                <a:latin typeface="Comic Sans MS"/>
              </a:rPr>
              <a:t>En la segunda mitad del siglo, durante el reinado de Alfonso X el Sabio, comienza a cultivarse la prosa narrativa al ser traducida al castellano colecciones de cuentos de origen oriental com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HN" sz="2600" spc="-1" strike="noStrike">
                <a:solidFill>
                  <a:srgbClr val="ffffff"/>
                </a:solidFill>
                <a:latin typeface="Comic Sans MS"/>
              </a:rPr>
              <a:t>Libro de Calila e Dimma</a:t>
            </a:r>
            <a:r>
              <a:rPr b="0" lang="es-HN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600" spc="-1" strike="noStrike">
                <a:solidFill>
                  <a:srgbClr val="ffffff"/>
                </a:solidFill>
                <a:latin typeface="Comic Sans MS"/>
              </a:rPr>
              <a:t>El </a:t>
            </a:r>
            <a:r>
              <a:rPr b="0" i="1" lang="es-HN" sz="2600" spc="-1" strike="noStrike">
                <a:solidFill>
                  <a:srgbClr val="ffffff"/>
                </a:solidFill>
                <a:latin typeface="Comic Sans MS"/>
              </a:rPr>
              <a:t>Sendebar</a:t>
            </a:r>
            <a:r>
              <a:rPr b="0" lang="es-HN" sz="2600" spc="-1" strike="noStrike">
                <a:solidFill>
                  <a:srgbClr val="ffffff"/>
                </a:solidFill>
                <a:latin typeface="Comic Sans MS"/>
              </a:rPr>
              <a:t>, que fue llamado </a:t>
            </a:r>
            <a:r>
              <a:rPr b="0" i="1" lang="es-HN" sz="2600" spc="-1" strike="noStrike">
                <a:solidFill>
                  <a:srgbClr val="ffffff"/>
                </a:solidFill>
                <a:latin typeface="Comic Sans MS"/>
              </a:rPr>
              <a:t>Libro de los engaños e los asayamientos de las mujer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600" spc="-1" strike="noStrike">
                <a:solidFill>
                  <a:srgbClr val="ffffff"/>
                </a:solidFill>
                <a:latin typeface="Comic Sans MS"/>
              </a:rPr>
              <a:t>La prosa es muy importante porque se relaciona con Juan Manuel y el Conde Lucanor y se basa en cuentos árabes y de la indi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WordArt 5"/>
          <p:cNvSpPr txBox="1"/>
          <p:nvPr/>
        </p:nvSpPr>
        <p:spPr>
          <a:xfrm>
            <a:off x="762120" y="304920"/>
            <a:ext cx="7619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724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Prosa bajo Alfonso X</a:t>
            </a:r>
            <a:endParaRPr b="0" lang="en-US" sz="2400" spc="1" strike="noStrike">
              <a:ln w="57240">
                <a:solidFill>
                  <a:srgbClr val="80808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762120" y="380880"/>
            <a:ext cx="7696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76320">
                  <a:solidFill>
                    <a:srgbClr val="996633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Generalidades</a:t>
            </a:r>
            <a:endParaRPr b="0" lang="en-US" sz="2400" spc="1" strike="noStrike">
              <a:ln w="76320">
                <a:solidFill>
                  <a:srgbClr val="996633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57200" y="1600200"/>
            <a:ext cx="8001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n el año 133 A.C con la toma de Numancia, se consolida la dominación romana sobre Hispani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n el 711 la península ibérica es invadida por los árabes cuya civilización brinda un máximo esplendor a esta reg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La cultura árabe se hace notar sobre todo en la arquitectura de la región de Andalucía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Picture 6" descr="numanc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4267080"/>
            <a:ext cx="201636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Picture 8" descr="arab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52480" y="4343400"/>
            <a:ext cx="3048120" cy="21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r>
              <a:rPr b="1" lang="es-HN" sz="2400" spc="-1" strike="noStrike" u="sng">
                <a:solidFill>
                  <a:srgbClr val="ffffff"/>
                </a:solidFill>
                <a:uFillTx/>
                <a:latin typeface="Comic Sans MS"/>
              </a:rPr>
              <a:t>Don Juan Man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Fue un político y escritor en lengua castella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Es uno de los principales representantes de la prosa medieval de ficción, sobre todo gracias a su obra </a:t>
            </a:r>
            <a:r>
              <a:rPr b="1" i="1" lang="es-HN" sz="2400" spc="-1" strike="noStrike">
                <a:solidFill>
                  <a:srgbClr val="ffffff"/>
                </a:solidFill>
                <a:latin typeface="Comic Sans MS"/>
              </a:rPr>
              <a:t>El conde Lucanor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, conjunto de cuentos moralizantes que se entremezclan con varias modalidades de literatura sapien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Nació en el Castillo de Escalona en la provincia de Tole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WordArt 8"/>
          <p:cNvSpPr txBox="1"/>
          <p:nvPr/>
        </p:nvSpPr>
        <p:spPr>
          <a:xfrm>
            <a:off x="1219320" y="304920"/>
            <a:ext cx="6858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7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Prosa Siglo XIV</a:t>
            </a:r>
            <a:endParaRPr b="0" lang="en-US" sz="2400" spc="1" strike="noStrike">
              <a:ln w="57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304920" y="30492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Literariamente, su formación incluyó la lectura de diversos poemas de clerecía (</a:t>
            </a:r>
            <a:r>
              <a:rPr b="0" i="1" lang="es-ES" sz="2400" spc="-1" strike="noStrike">
                <a:solidFill>
                  <a:srgbClr val="ffffff"/>
                </a:solidFill>
                <a:latin typeface="Comic Sans MS"/>
              </a:rPr>
              <a:t>Libro de Alexandre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i="1" lang="es-ES" sz="2400" spc="-1" strike="noStrike">
                <a:solidFill>
                  <a:srgbClr val="ffffff"/>
                </a:solidFill>
                <a:latin typeface="Comic Sans MS"/>
              </a:rPr>
              <a:t>Libro de Apolonio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...), los tratados de Raimundo Lulio, la obra de Alfonso X (especialmente, la </a:t>
            </a:r>
            <a:r>
              <a:rPr b="0" i="1" lang="es-ES" sz="2400" spc="-1" strike="noStrike">
                <a:solidFill>
                  <a:srgbClr val="ffffff"/>
                </a:solidFill>
                <a:latin typeface="Comic Sans MS"/>
              </a:rPr>
              <a:t>Estoria de España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Picture 10" descr="20070601223746-romancero"/>
          <p:cNvPicPr/>
          <p:nvPr/>
        </p:nvPicPr>
        <p:blipFill>
          <a:blip r:embed="rId1"/>
          <a:stretch/>
        </p:blipFill>
        <p:spPr>
          <a:xfrm>
            <a:off x="380880" y="2362320"/>
            <a:ext cx="2514600" cy="1923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integr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0400" y="38098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5" descr="Codice%2520Tractatus%2520de%2520vit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3600" y="2362320"/>
            <a:ext cx="26668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5"/>
          <p:cNvSpPr txBox="1"/>
          <p:nvPr/>
        </p:nvSpPr>
        <p:spPr>
          <a:xfrm>
            <a:off x="609480" y="304920"/>
            <a:ext cx="754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7240">
                  <a:solidFill>
                    <a:srgbClr val="6633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Obras de Don Juan Manuel</a:t>
            </a:r>
            <a:endParaRPr b="0" lang="en-US" sz="2400" spc="1" strike="noStrike">
              <a:ln w="57240">
                <a:solidFill>
                  <a:srgbClr val="6633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304920" y="1676520"/>
            <a:ext cx="8458200" cy="41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300" spc="-1" strike="noStrike">
                <a:solidFill>
                  <a:srgbClr val="ffffff"/>
                </a:solidFill>
                <a:latin typeface="Comic Sans MS"/>
              </a:rPr>
              <a:t>El libro de los estados trata de como debe ser una sociedad ideal en el siglo XIV, con un final didáctico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300" spc="-1" strike="noStrike">
                <a:solidFill>
                  <a:srgbClr val="ffffff"/>
                </a:solidFill>
                <a:latin typeface="Comic Sans MS"/>
              </a:rPr>
              <a:t>El Libro del caballero y el escudero, narra de un joven que aspira a ser cortesano y aprende de un ermitaño que fue caballero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300" spc="-1" strike="noStrike">
                <a:solidFill>
                  <a:srgbClr val="ffffff"/>
                </a:solidFill>
                <a:latin typeface="Comic Sans MS"/>
              </a:rPr>
              <a:t>Su obra maestra es El Conde de Lucanor o Libro de Patronio, con un contenido de 51 cuentos y conversaciones entre el conde Lucanor y                  Patronio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300" spc="-1" strike="noStrike">
                <a:solidFill>
                  <a:srgbClr val="ffffff"/>
                </a:solidFill>
                <a:latin typeface="Comic Sans MS"/>
              </a:rPr>
              <a:t>Libro de la Caza, una crónica abreviada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Picture 8" descr="Retrato de don Juan Manu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4572000"/>
            <a:ext cx="1828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5"/>
          <p:cNvSpPr txBox="1"/>
          <p:nvPr/>
        </p:nvSpPr>
        <p:spPr>
          <a:xfrm>
            <a:off x="2133720" y="685800"/>
            <a:ext cx="4800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724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Conde Lucanor</a:t>
            </a:r>
            <a:endParaRPr b="0" lang="en-US" sz="2400" spc="1" strike="noStrike">
              <a:ln w="5724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  <p:pic>
        <p:nvPicPr>
          <p:cNvPr id="240" name="Picture 7" descr="djm"/>
          <p:cNvPicPr/>
          <p:nvPr/>
        </p:nvPicPr>
        <p:blipFill>
          <a:blip r:embed="rId1"/>
          <a:stretch/>
        </p:blipFill>
        <p:spPr>
          <a:xfrm>
            <a:off x="228600" y="228600"/>
            <a:ext cx="160020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1" name="Picture 10" descr="cubierta"/>
          <p:cNvPicPr/>
          <p:nvPr/>
        </p:nvPicPr>
        <p:blipFill>
          <a:blip r:embed="rId2"/>
          <a:stretch/>
        </p:blipFill>
        <p:spPr>
          <a:xfrm>
            <a:off x="7315200" y="228600"/>
            <a:ext cx="1371600" cy="16765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3"/>
          <p:cNvSpPr/>
          <p:nvPr/>
        </p:nvSpPr>
        <p:spPr>
          <a:xfrm>
            <a:off x="304920" y="2209680"/>
            <a:ext cx="86104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- Es obra cumbre de la narrativa en prosa de siglo XIV de la literatura español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- El libro tiene un total de 51 cuentos, como fuentes Esopo y los cuentos tradicionales árabe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La marca del libro es el propósito didáctico(enseñar) y moral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El conde de Lucanor empieza una conversación Patronio, el conde le explica un problema que tiene a Patroni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Cada capítulo termina de forma similar, nada mas que con uno que otro(s) cambio(s)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7"/>
          <p:cNvSpPr txBox="1"/>
          <p:nvPr/>
        </p:nvSpPr>
        <p:spPr>
          <a:xfrm>
            <a:off x="380880" y="152280"/>
            <a:ext cx="8534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724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El Mancebo que se casó con una mujer</a:t>
            </a:r>
            <a:endParaRPr b="0" lang="en-US" sz="2400" spc="1" strike="noStrike">
              <a:ln w="57240">
                <a:solidFill>
                  <a:srgbClr val="80808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724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muy brava...</a:t>
            </a:r>
            <a:endParaRPr b="0" lang="en-US" sz="2400" spc="1" strike="noStrike">
              <a:ln w="57240">
                <a:solidFill>
                  <a:srgbClr val="80808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685800" y="1752480"/>
            <a:ext cx="2057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 u="sng">
                <a:solidFill>
                  <a:srgbClr val="ffffff"/>
                </a:solidFill>
                <a:uFillTx/>
                <a:latin typeface="Comic Sans MS"/>
              </a:rPr>
              <a:t>Personajes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Comic Sans MS"/>
              </a:rPr>
              <a:t>Conde Lucanor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Comic Sans MS"/>
              </a:rPr>
              <a:t>Patronio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Comic Sans MS"/>
              </a:rPr>
              <a:t>Mancebo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Comic Sans MS"/>
              </a:rPr>
              <a:t>La mujer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609480" y="4114800"/>
            <a:ext cx="2057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 u="sng">
                <a:solidFill>
                  <a:srgbClr val="ffffff"/>
                </a:solidFill>
                <a:uFillTx/>
                <a:latin typeface="Comic Sans MS"/>
              </a:rPr>
              <a:t>Marco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Comic Sans MS"/>
              </a:rPr>
              <a:t>En la casa de el mancebo donde vive con su mujer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3352680" y="1752480"/>
            <a:ext cx="4343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 u="sng">
                <a:solidFill>
                  <a:srgbClr val="ffffff"/>
                </a:solidFill>
                <a:uFillTx/>
                <a:latin typeface="Comic Sans MS"/>
              </a:rPr>
              <a:t>Conflictos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100" spc="-1" strike="noStrike" u="sng">
                <a:solidFill>
                  <a:srgbClr val="ffffff"/>
                </a:solidFill>
                <a:uFillTx/>
                <a:latin typeface="Comic Sans MS"/>
              </a:rPr>
              <a:t>Mancebo vs. Sociedad</a:t>
            </a:r>
            <a:r>
              <a:rPr b="0" lang="es-ES" sz="2100" spc="-1" strike="noStrike">
                <a:solidFill>
                  <a:srgbClr val="ffffff"/>
                </a:solidFill>
                <a:latin typeface="Comic Sans MS"/>
              </a:rPr>
              <a:t> -&gt; No querían que el mancebo se casara con la mujer porque pensaban que lo iba a matar.}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100" spc="-1" strike="noStrike" u="sng">
                <a:solidFill>
                  <a:srgbClr val="ffffff"/>
                </a:solidFill>
                <a:uFillTx/>
                <a:latin typeface="Comic Sans MS"/>
              </a:rPr>
              <a:t>Mancebo vs. Gente que no le obedecía</a:t>
            </a:r>
            <a:r>
              <a:rPr b="0" lang="es-ES" sz="2100" spc="-1" strike="noStrike">
                <a:solidFill>
                  <a:srgbClr val="ffffff"/>
                </a:solidFill>
                <a:latin typeface="Comic Sans MS"/>
              </a:rPr>
              <a:t> -&gt; A todos los que no le obedecían lo iba a matar.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7" name="Picture 12" descr="djm"/>
          <p:cNvPicPr/>
          <p:nvPr/>
        </p:nvPicPr>
        <p:blipFill>
          <a:blip r:embed="rId1"/>
          <a:stretch/>
        </p:blipFill>
        <p:spPr>
          <a:xfrm>
            <a:off x="6858000" y="4191120"/>
            <a:ext cx="1486080" cy="2209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3"/>
          <p:cNvSpPr/>
          <p:nvPr/>
        </p:nvSpPr>
        <p:spPr>
          <a:xfrm>
            <a:off x="3124080" y="4876920"/>
            <a:ext cx="3353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 u="sng">
                <a:solidFill>
                  <a:srgbClr val="ffffff"/>
                </a:solidFill>
                <a:uFillTx/>
                <a:latin typeface="Comic Sans MS"/>
              </a:rPr>
              <a:t>Temas: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Comic Sans MS"/>
              </a:rPr>
              <a:t>Las apariencias engañan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228600" y="1905120"/>
            <a:ext cx="853452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500" spc="-1" strike="noStrike">
                <a:solidFill>
                  <a:srgbClr val="ffffff"/>
                </a:solidFill>
                <a:latin typeface="Comic Sans MS"/>
              </a:rPr>
              <a:t>Es de género épico y lírico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62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500" spc="-1" strike="noStrike">
                <a:solidFill>
                  <a:srgbClr val="ffffff"/>
                </a:solidFill>
                <a:latin typeface="Comic Sans MS"/>
              </a:rPr>
              <a:t>Son un conjunto de composiciones o poemas anónimos épico o épico-lírico hechos en el siglo XIV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62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500" spc="-1" strike="noStrike">
                <a:solidFill>
                  <a:srgbClr val="ffffff"/>
                </a:solidFill>
                <a:latin typeface="Comic Sans MS"/>
              </a:rPr>
              <a:t>Su estructura es simple: número indefinido de versos y ríman con asonancia los pares y deja libre los impares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62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500" spc="-1" strike="noStrike">
                <a:solidFill>
                  <a:srgbClr val="ffffff"/>
                </a:solidFill>
                <a:latin typeface="Comic Sans MS"/>
              </a:rPr>
              <a:t>Es un poema que cuenta una historia verdadera o de ficción que se cuenta oralmente creando distintas versiones, acerca de un mismo romance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WordArt 5"/>
          <p:cNvSpPr txBox="1"/>
          <p:nvPr/>
        </p:nvSpPr>
        <p:spPr>
          <a:xfrm>
            <a:off x="609480" y="304920"/>
            <a:ext cx="8077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7240">
                  <a:solidFill>
                    <a:srgbClr val="6633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Romancero Tradicional</a:t>
            </a:r>
            <a:endParaRPr b="0" lang="en-US" sz="2400" spc="1" strike="noStrike">
              <a:ln w="57240">
                <a:solidFill>
                  <a:srgbClr val="6633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5"/>
          <p:cNvSpPr/>
          <p:nvPr/>
        </p:nvSpPr>
        <p:spPr>
          <a:xfrm>
            <a:off x="609480" y="457200"/>
            <a:ext cx="7925040" cy="44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200" spc="-1" strike="noStrike" u="sng">
                <a:solidFill>
                  <a:srgbClr val="ffffff"/>
                </a:solidFill>
                <a:uFillTx/>
                <a:latin typeface="Showcard Gothic"/>
              </a:rPr>
              <a:t>Clasificació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2400" spc="-1" strike="noStrike">
                <a:solidFill>
                  <a:srgbClr val="ffffff"/>
                </a:solidFill>
                <a:latin typeface="Comic Sans MS"/>
              </a:rPr>
              <a:t>Romances Históricos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H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 son basados en la épica tradiciona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2400" spc="-1" strike="noStrike">
                <a:solidFill>
                  <a:srgbClr val="ffffff"/>
                </a:solidFill>
                <a:latin typeface="Comic Sans MS"/>
              </a:rPr>
              <a:t>Romances Legendarios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H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 Recogen leyendas de la époc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2400" spc="-1" strike="noStrike">
                <a:solidFill>
                  <a:srgbClr val="ffffff"/>
                </a:solidFill>
                <a:latin typeface="Comic Sans MS"/>
              </a:rPr>
              <a:t>Romances Novelescos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H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 Son producto de la imaginación popula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2400" spc="-1" strike="noStrike">
                <a:solidFill>
                  <a:srgbClr val="ffffff"/>
                </a:solidFill>
                <a:latin typeface="Comic Sans MS"/>
              </a:rPr>
              <a:t>Romances Fronterizos y Moris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2" name="Picture 7" descr="f1-retocarpronta"/>
          <p:cNvPicPr/>
          <p:nvPr/>
        </p:nvPicPr>
        <p:blipFill>
          <a:blip r:embed="rId1"/>
          <a:stretch/>
        </p:blipFill>
        <p:spPr>
          <a:xfrm>
            <a:off x="6324480" y="3733920"/>
            <a:ext cx="2133720" cy="2666880"/>
          </a:xfrm>
          <a:prstGeom prst="rect">
            <a:avLst/>
          </a:prstGeom>
          <a:ln w="0">
            <a:noFill/>
          </a:ln>
        </p:spPr>
      </p:pic>
      <p:sp>
        <p:nvSpPr>
          <p:cNvPr id="253" name="WordArt 8"/>
          <p:cNvSpPr txBox="1"/>
          <p:nvPr/>
        </p:nvSpPr>
        <p:spPr>
          <a:xfrm>
            <a:off x="4343400" y="4572000"/>
            <a:ext cx="16002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Kristen ITC"/>
              </a:rPr>
              <a:t>Infante</a:t>
            </a:r>
            <a:endParaRPr b="1" lang="en-US" sz="24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Kristen ITC"/>
              </a:rPr>
              <a:t>Arnaldos</a:t>
            </a:r>
            <a:endParaRPr b="1" lang="en-US" sz="24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Kristen ITC"/>
              <a:ea typeface="Kristen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5"/>
          <p:cNvSpPr txBox="1"/>
          <p:nvPr/>
        </p:nvSpPr>
        <p:spPr>
          <a:xfrm>
            <a:off x="609480" y="533520"/>
            <a:ext cx="5867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996633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Showcard Gothic"/>
              </a:rPr>
              <a:t>Jorge Manrique</a:t>
            </a:r>
            <a:endParaRPr b="1" lang="en-US" sz="2400" spc="1" strike="noStrike">
              <a:ln w="38160">
                <a:solidFill>
                  <a:srgbClr val="996633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  <p:pic>
        <p:nvPicPr>
          <p:cNvPr id="255" name="Picture 8" descr="000373750"/>
          <p:cNvPicPr/>
          <p:nvPr/>
        </p:nvPicPr>
        <p:blipFill>
          <a:blip r:embed="rId1"/>
          <a:stretch/>
        </p:blipFill>
        <p:spPr>
          <a:xfrm>
            <a:off x="7162920" y="152280"/>
            <a:ext cx="1600200" cy="198144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0"/>
          <p:cNvSpPr/>
          <p:nvPr/>
        </p:nvSpPr>
        <p:spPr>
          <a:xfrm>
            <a:off x="228600" y="2057400"/>
            <a:ext cx="8153280" cy="43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300" spc="-1" strike="noStrike">
                <a:solidFill>
                  <a:srgbClr val="ffffff"/>
                </a:solidFill>
                <a:latin typeface="Comic Sans MS"/>
              </a:rPr>
              <a:t>- Nacío en Paredes de Nava, Palencia en 1440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300" spc="-1" strike="noStrike">
                <a:solidFill>
                  <a:srgbClr val="ffffff"/>
                </a:solidFill>
                <a:latin typeface="Comic Sans MS"/>
              </a:rPr>
              <a:t>Autor de las Coplas por la muerte de su padre, un gran clásico de la literatura española de todos los tiempos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300" spc="-1" strike="noStrike">
                <a:solidFill>
                  <a:srgbClr val="ffffff"/>
                </a:solidFill>
                <a:latin typeface="Comic Sans MS"/>
              </a:rPr>
              <a:t>Las Coplas por la muerte de su padre es una elegía escrita por él en la muerte de su padre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300" spc="-1" strike="noStrike">
                <a:solidFill>
                  <a:srgbClr val="ffffff"/>
                </a:solidFill>
                <a:latin typeface="Comic Sans MS"/>
              </a:rPr>
              <a:t>Se le considera el mejor poema lírico de la poesía medieval castelllana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300" spc="-1" strike="noStrike">
                <a:solidFill>
                  <a:srgbClr val="ffffff"/>
                </a:solidFill>
                <a:latin typeface="Comic Sans MS"/>
              </a:rPr>
              <a:t>Su género es poético de la elegía funeral medieval o planto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2"/>
          <p:cNvSpPr txBox="1"/>
          <p:nvPr/>
        </p:nvSpPr>
        <p:spPr>
          <a:xfrm>
            <a:off x="609480" y="228600"/>
            <a:ext cx="7696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76320">
                  <a:solidFill>
                    <a:srgbClr val="006666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La Celestina</a:t>
            </a:r>
            <a:endParaRPr b="0" lang="en-US" sz="2400" spc="1" strike="noStrike">
              <a:ln w="76320">
                <a:solidFill>
                  <a:srgbClr val="006666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  <p:pic>
        <p:nvPicPr>
          <p:cNvPr id="258" name="Picture 4" descr="la_celestina"/>
          <p:cNvPicPr/>
          <p:nvPr/>
        </p:nvPicPr>
        <p:blipFill>
          <a:blip r:embed="rId1"/>
          <a:stretch/>
        </p:blipFill>
        <p:spPr>
          <a:xfrm>
            <a:off x="6400800" y="2362320"/>
            <a:ext cx="2319480" cy="32763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5"/>
          <p:cNvSpPr/>
          <p:nvPr/>
        </p:nvSpPr>
        <p:spPr>
          <a:xfrm>
            <a:off x="228600" y="1600200"/>
            <a:ext cx="6019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200" spc="-1" strike="noStrike">
                <a:solidFill>
                  <a:srgbClr val="ffffff"/>
                </a:solidFill>
                <a:latin typeface="Comic Sans MS"/>
              </a:rPr>
              <a:t>El último cuarto del siglo XV representa un período clave en la historia de España, por cuanto en él se logran la unidad nacional, la sumisión de la nobleza y la conquista de las últimas posesiones árabes en Andalucí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Comic Sans MS"/>
              </a:rPr>
              <a:t>En 1499 aparece la </a:t>
            </a:r>
            <a:r>
              <a:rPr b="1" i="1" lang="es-ES" sz="2200" spc="-1" strike="noStrike">
                <a:solidFill>
                  <a:srgbClr val="ffffff"/>
                </a:solidFill>
                <a:latin typeface="Comic Sans MS"/>
              </a:rPr>
              <a:t>Comedia de Calisto y Melibea</a:t>
            </a:r>
            <a:r>
              <a:rPr b="1" lang="es-ES" sz="2200" spc="-1" strike="noStrike">
                <a:solidFill>
                  <a:srgbClr val="ffffff"/>
                </a:solidFill>
                <a:latin typeface="Comic Sans MS"/>
              </a:rPr>
              <a:t>, obra que corresponde al espíritu renacentist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Comic Sans MS"/>
              </a:rPr>
              <a:t>Es también llamada Tragicomedia, versión que fue publicada en 1502</a:t>
            </a: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1" lang="es-ES" sz="2200" spc="-1" strike="noStrike">
                <a:solidFill>
                  <a:srgbClr val="ffffff"/>
                </a:solidFill>
                <a:latin typeface="Comic Sans MS"/>
              </a:rPr>
              <a:t>conocida como La Celestina y fue escrita por Fernando de Rojas en pros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5400" spc="-1" strike="noStrike">
                <a:solidFill>
                  <a:srgbClr val="ffffff"/>
                </a:solidFill>
                <a:latin typeface="Showcard Gothic"/>
              </a:rPr>
              <a:t>1492: año cla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500" spc="-1" strike="noStrike">
                <a:solidFill>
                  <a:srgbClr val="ffffff"/>
                </a:solidFill>
                <a:latin typeface="Comic Sans MS"/>
              </a:rPr>
              <a:t>La expulsión de los moros (2 de enero) y de los judíos (sefarditas) (2 de agosto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500" spc="-1" strike="noStrike">
                <a:solidFill>
                  <a:srgbClr val="ffffff"/>
                </a:solidFill>
                <a:latin typeface="Comic Sans MS"/>
              </a:rPr>
              <a:t>La unificación de España (ganaron los cristiano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5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HN" sz="2500" spc="-1" strike="noStrike">
                <a:solidFill>
                  <a:srgbClr val="ffffff"/>
                </a:solidFill>
                <a:latin typeface="Comic Sans MS"/>
              </a:rPr>
              <a:t>Unificación lingüíst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5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HN" sz="2500" spc="-1" strike="noStrike">
                <a:solidFill>
                  <a:srgbClr val="ffffff"/>
                </a:solidFill>
                <a:latin typeface="Comic Sans MS"/>
              </a:rPr>
              <a:t>Unificación religios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5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HN" sz="2500" spc="-1" strike="noStrike">
                <a:solidFill>
                  <a:srgbClr val="ffffff"/>
                </a:solidFill>
                <a:latin typeface="Comic Sans MS"/>
              </a:rPr>
              <a:t>Unificación polít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500" spc="-1" strike="noStrike">
                <a:solidFill>
                  <a:srgbClr val="ffffff"/>
                </a:solidFill>
                <a:latin typeface="Comic Sans MS"/>
              </a:rPr>
              <a:t>Se escribió la 1</a:t>
            </a:r>
            <a:r>
              <a:rPr b="0" lang="es-HN" sz="2500" spc="-1" strike="noStrike" baseline="30000">
                <a:solidFill>
                  <a:srgbClr val="ffffff"/>
                </a:solidFill>
                <a:latin typeface="Comic Sans MS"/>
              </a:rPr>
              <a:t>ra</a:t>
            </a:r>
            <a:r>
              <a:rPr b="0" lang="es-HN" sz="2500" spc="-1" strike="noStrike">
                <a:solidFill>
                  <a:srgbClr val="ffffff"/>
                </a:solidFill>
                <a:latin typeface="Comic Sans MS"/>
              </a:rPr>
              <a:t> gramática (Nebrij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5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0" lang="es-HN" sz="2500" spc="-1" strike="noStrike">
                <a:solidFill>
                  <a:srgbClr val="ffffff"/>
                </a:solidFill>
                <a:latin typeface="Comic Sans MS"/>
              </a:rPr>
              <a:t>Descubrimiento’ de América:  la reina cristiana pudo apoyar a Cristóbal Colón precisamente porque no tenía que pagar los gastos de la guerra contra los moros, y porque tomó control de la riqueza de los judío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Comic Sans MS"/>
              </a:rPr>
              <a:t>Se inicia la Reconquista, con Pelayo, rey Visigodo y la batalla de Covadonga en 718 y que da origen del primer reino cristiano español, Asturias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Comic Sans MS"/>
              </a:rPr>
              <a:t>A medida que avanza la reconquista, los reinos de Castilla y Aragón cobran cada vez más importanci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Comic Sans MS"/>
              </a:rPr>
              <a:t>Tras siete siglos de luchas, la toma de Granada en 1492 marca el fin de la dominación musulmana en Españ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6" descr="navas-tolo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4800600"/>
            <a:ext cx="2590920" cy="1801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donPelay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1066680"/>
            <a:ext cx="1887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Comic Sans MS"/>
              </a:rPr>
              <a:t>En la época medieval la literatura era didáctic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Comic Sans MS"/>
              </a:rPr>
              <a:t>Hay una variedad poemática desde la literatura de hazanas y religiosas hasta una literatura cortesan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Comic Sans MS"/>
              </a:rPr>
              <a:t>La literatura didáctica en prosa es enciclopédica como en cuentos y murales para ensenarnos como actu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WordArt 3"/>
          <p:cNvSpPr txBox="1"/>
          <p:nvPr/>
        </p:nvSpPr>
        <p:spPr>
          <a:xfrm>
            <a:off x="609480" y="380880"/>
            <a:ext cx="7696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7632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Conclusiones</a:t>
            </a:r>
            <a:endParaRPr b="0" lang="en-US" sz="2400" spc="1" strike="noStrike">
              <a:ln w="7632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2"/>
          <p:cNvSpPr txBox="1"/>
          <p:nvPr/>
        </p:nvSpPr>
        <p:spPr>
          <a:xfrm>
            <a:off x="762120" y="304920"/>
            <a:ext cx="7696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7632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Bibliografía</a:t>
            </a:r>
            <a:endParaRPr b="0" lang="en-US" sz="2400" spc="1" strike="noStrike">
              <a:ln w="7632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609480" y="1828800"/>
            <a:ext cx="79250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Comic Sans MS"/>
              </a:rPr>
              <a:t>http://roble.pntic.mec.es/~msanto1/lengua/clerecia.ht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Comic Sans MS"/>
              </a:rPr>
              <a:t>Perez Rivera, Francisco. Hurtado, Mario; Introducción a la Literatura Española: Regents, 197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Comic Sans MS"/>
              </a:rPr>
              <a:t>Rodríguez, Rodney T; Momentos cumbres de las literaturas hispánicas: Prentice Hall, 200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Comic Sans MS"/>
              </a:rPr>
              <a:t>http://maestrastacy.wikispaces.com/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304920" y="304920"/>
            <a:ext cx="861048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2200" spc="-1" strike="noStrike">
                <a:solidFill>
                  <a:srgbClr val="ffffff"/>
                </a:solidFill>
                <a:latin typeface="Comic Sans MS"/>
              </a:rPr>
              <a:t>La gloria de haber concluido la Reconquista y de haber allanado el camino a la unificación de España con su propio matrimonio, corresponde a los Reyes Católicos, Isabel de Castilla y Fernando de Aragón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Comic Sans MS"/>
              </a:rPr>
              <a:t>Durante el gobierno de los reyes Católicos en 1492 se lleva</a:t>
            </a: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1" lang="es-ES" sz="2200" spc="-1" strike="noStrike">
                <a:solidFill>
                  <a:srgbClr val="ffffff"/>
                </a:solidFill>
                <a:latin typeface="Comic Sans MS"/>
              </a:rPr>
              <a:t> a cabo</a:t>
            </a: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2200" spc="-1" strike="noStrike">
                <a:solidFill>
                  <a:srgbClr val="ffffff"/>
                </a:solidFill>
                <a:latin typeface="Comic Sans MS"/>
              </a:rPr>
              <a:t>descubrimiento de América – que ocurre en el mismo añ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Comic Sans MS"/>
              </a:rPr>
              <a:t>la toma de Granada – gracias al apoyo prestado a Cristóbal Colón por la reina Castellan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3" name="Picture 4" descr="GW450H3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1905120"/>
            <a:ext cx="2895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d Media:  AP de Literatur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S 20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000" spc="-1" strike="noStrike">
                <a:solidFill>
                  <a:srgbClr val="ffffff"/>
                </a:solidFill>
                <a:latin typeface="Showcard Gothic"/>
              </a:rPr>
              <a:t>El contexto socio-histór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Comic Sans MS"/>
              </a:rPr>
              <a:t>Convivencia entre 3 culturas:  la cristiana, la musulmana, la jud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Comic Sans MS"/>
              </a:rPr>
              <a:t>Hubo interacción entre las tres:  por ejemplo: hay poemas en español escritos en el alfabeto árabe, y poemas en árabe escritos en el alfabeto lati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Comic Sans MS"/>
              </a:rPr>
              <a:t>Las aportaciones de los moros y los judíos hicieron posible la grandeza española en la edad de descubrimiento y conqui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000" spc="-1" strike="noStrike">
                <a:solidFill>
                  <a:srgbClr val="ffffff"/>
                </a:solidFill>
                <a:latin typeface="Showcard Gothic"/>
              </a:rPr>
              <a:t>Las aportaciones de las 3 cultura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600" spc="-1" strike="noStrike">
                <a:solidFill>
                  <a:srgbClr val="ffffff"/>
                </a:solidFill>
                <a:latin typeface="Comic Sans MS"/>
              </a:rPr>
              <a:t>De los </a:t>
            </a:r>
            <a:r>
              <a:rPr b="1" lang="es-HN" sz="2600" spc="-1" strike="noStrike" u="sng">
                <a:solidFill>
                  <a:srgbClr val="ffffff"/>
                </a:solidFill>
                <a:uFillTx/>
                <a:latin typeface="Comic Sans MS"/>
              </a:rPr>
              <a:t>moros</a:t>
            </a:r>
            <a:r>
              <a:rPr b="0" lang="es-HN" sz="2600" spc="-1" strike="noStrike">
                <a:solidFill>
                  <a:srgbClr val="ffffff"/>
                </a:solidFill>
                <a:latin typeface="Comic Sans MS"/>
              </a:rPr>
              <a:t>:  ciencias:  matemáticas (sistema de números, álgebra, geometría), astronomía, medicina; traducción de textos avanzados. Nuevas comidas importadas del medio oriente (café,té, azúcar, frutas). Literatura clásica. Ideas de lujos (baños públicos, luces públicas, bibliotecas públicas), músic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600" spc="-1" strike="noStrike">
                <a:solidFill>
                  <a:srgbClr val="ffffff"/>
                </a:solidFill>
                <a:latin typeface="Comic Sans MS"/>
              </a:rPr>
              <a:t>De los </a:t>
            </a:r>
            <a:r>
              <a:rPr b="1" lang="es-HN" sz="2600" spc="-1" strike="noStrike" u="sng">
                <a:solidFill>
                  <a:srgbClr val="ffffff"/>
                </a:solidFill>
                <a:uFillTx/>
                <a:latin typeface="Comic Sans MS"/>
              </a:rPr>
              <a:t>judíos</a:t>
            </a:r>
            <a:r>
              <a:rPr b="0" lang="es-HN" sz="2600" spc="-1" strike="noStrike">
                <a:solidFill>
                  <a:srgbClr val="ffffff"/>
                </a:solidFill>
                <a:latin typeface="Comic Sans MS"/>
              </a:rPr>
              <a:t>:  traducción de textos orientales;  medicina; comunicación con otros países europe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600" spc="-1" strike="noStrike">
                <a:solidFill>
                  <a:srgbClr val="ffffff"/>
                </a:solidFill>
                <a:latin typeface="Comic Sans MS"/>
              </a:rPr>
              <a:t>De los </a:t>
            </a:r>
            <a:r>
              <a:rPr b="1" lang="es-HN" sz="2600" spc="-1" strike="noStrike" u="sng">
                <a:solidFill>
                  <a:srgbClr val="ffffff"/>
                </a:solidFill>
                <a:uFillTx/>
                <a:latin typeface="Comic Sans MS"/>
              </a:rPr>
              <a:t>cristianos</a:t>
            </a:r>
            <a:r>
              <a:rPr b="0" lang="es-HN" sz="2600" spc="-1" strike="noStrike">
                <a:solidFill>
                  <a:srgbClr val="ffffff"/>
                </a:solidFill>
                <a:latin typeface="Comic Sans MS"/>
              </a:rPr>
              <a:t>: conceptos de gobierno, de leyes; el idioma.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600" spc="-1" strike="noStrike">
                <a:solidFill>
                  <a:srgbClr val="ffffff"/>
                </a:solidFill>
                <a:latin typeface="Comic Sans MS"/>
              </a:rPr>
              <a:t>Todo eso cuando Europa estaba en “la edad oscura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400" spc="-1" strike="noStrike">
                <a:solidFill>
                  <a:srgbClr val="000000"/>
                </a:solidFill>
                <a:latin typeface="Times New Roman"/>
              </a:rPr>
              <a:t>Edad Media:  AP de Literatur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400" spc="-1" strike="noStrike">
                <a:solidFill>
                  <a:srgbClr val="000000"/>
                </a:solidFill>
                <a:latin typeface="Times New Roman"/>
              </a:rPr>
              <a:t>CRS 20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000" spc="-1" strike="noStrike">
                <a:solidFill>
                  <a:srgbClr val="ffffff"/>
                </a:solidFill>
                <a:latin typeface="Showcard Gothic"/>
              </a:rPr>
              <a:t>El contexto artístico:  </a:t>
            </a:r>
            <a:br>
              <a:rPr sz="4000"/>
            </a:br>
            <a:r>
              <a:rPr b="0" lang="es-HN" sz="4000" spc="-1" strike="noStrike">
                <a:solidFill>
                  <a:srgbClr val="ffffff"/>
                </a:solidFill>
                <a:latin typeface="Showcard Gothic"/>
              </a:rPr>
              <a:t>la arquitec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Comic Sans MS"/>
              </a:rPr>
              <a:t>De los cristian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s-HN" sz="2800" spc="-1" strike="noStrike">
                <a:solidFill>
                  <a:srgbClr val="ffffff"/>
                </a:solidFill>
                <a:latin typeface="Comic Sans MS"/>
              </a:rPr>
              <a:t>principalmente la arquitectura, especialmente de catedr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Comic Sans MS"/>
              </a:rPr>
              <a:t>De los judí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s-HN" sz="2800" spc="-1" strike="noStrike">
                <a:solidFill>
                  <a:srgbClr val="ffffff"/>
                </a:solidFill>
                <a:latin typeface="Comic Sans MS"/>
              </a:rPr>
              <a:t>sinagog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Comic Sans MS"/>
              </a:rPr>
              <a:t>De los moro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s-HN" sz="2800" spc="-1" strike="noStrike">
                <a:solidFill>
                  <a:srgbClr val="ffffff"/>
                </a:solidFill>
                <a:latin typeface="Comic Sans MS"/>
              </a:rPr>
              <a:t>mezquitas, palacios (especialmente la Alhambra); en casas particulares:  el concepto del patio interior y paredes gru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000" spc="-1" strike="noStrike">
                <a:solidFill>
                  <a:srgbClr val="ffffff"/>
                </a:solidFill>
                <a:latin typeface="Showcard Gothic"/>
              </a:rPr>
              <a:t>La arquitectura cristi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403848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dddddd"/>
                </a:solidFill>
                <a:latin typeface="Comic Sans MS"/>
              </a:rPr>
              <a:t>La catedral de Sevi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23920" y="456840"/>
            <a:ext cx="4038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dddddd"/>
                </a:solidFill>
                <a:latin typeface="Comic Sans MS"/>
              </a:rPr>
              <a:t>Los cristianos decidieron construir la catedral más grande de Europ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3/34.- Seville, Cathedral 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057400"/>
            <a:ext cx="4286160" cy="32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6" name="Picture 6" descr="2/34.- Seville, Cathedral-&quot;La Giralda&quot;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3124080"/>
            <a:ext cx="4286520" cy="3210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6:20:28Z</dcterms:created>
  <dc:creator>Gaby J</dc:creator>
  <dc:description/>
  <dc:language>en-US</dc:language>
  <cp:lastModifiedBy>Mami</cp:lastModifiedBy>
  <dcterms:modified xsi:type="dcterms:W3CDTF">2010-07-26T16:41:24Z</dcterms:modified>
  <cp:revision>66</cp:revision>
  <dc:subject/>
  <dc:title>PowerPoint Presentation</dc:title>
</cp:coreProperties>
</file>